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0BEDC-92AE-4EE8-BA07-DA8C65F937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AD91E-84F3-411D-9CD3-352B57A8ED4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54FF1-8891-40A0-8FF9-0C48F601C7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820579-E952-4A9D-9250-63F1EAC823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CA2A1EA-33CE-451B-9601-F5DC4C59F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50DE1E-4D03-4B42-B905-3B7EADBC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9F15159-32F9-4C1E-A0A4-A4880A4C4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E82643-EB40-40EA-A6B3-8B1FCA58A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21ED75-C6A0-4ED9-A630-F56572BBD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C0D4E9-C112-4A4A-898C-205E86DEE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88B4E0-E558-4F9F-A908-53BA4453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14717-8F33-49FE-9FD4-393915CA0E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493546-9BA5-40BD-AB65-101D663B4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4186B6-C03E-4E00-83F4-6A8D743E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7A9057-C102-4D56-9632-95A7F9ECD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DC159E-89CC-4D02-A3E3-20ECFE618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624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7560" y="152388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624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7560" y="3912120"/>
            <a:ext cx="277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2236E4-07B4-4E62-9F6B-BE0FC0B6F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93831-9A4E-48C0-A79F-40E0AAE27E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4AD586-FAEA-4DA8-BDD1-1DDF359FC9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49888-3C42-4036-B736-269E0398DC8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228240"/>
            <a:ext cx="8610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A38AB-FFE1-4F32-8098-8BD21B518F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82761-C67B-48A2-992A-8CF98ADDC87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17080" y="391212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B541E-C9F1-4A2E-A43A-EAA8BEEBA66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523880"/>
            <a:ext cx="42015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3912120"/>
            <a:ext cx="861048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1FE02B-5590-4F8C-9A56-0472D48355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e5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8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3A4-D5B9-4F1F-B076-75193A905B74}" type="datetime">
              <a:rPr b="0" lang="en-US" sz="1400" spc="-1" strike="noStrike">
                <a:solidFill>
                  <a:srgbClr val="595841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95841"/>
                </a:solidFill>
                <a:latin typeface="Arial"/>
              </a:rPr>
              <a:t>[Project Name]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8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40A41-3F63-40E5-B823-425630022D85}" type="slidenum">
              <a:rPr b="0" lang="en-US" sz="1400" spc="-1" strike="noStrike">
                <a:solidFill>
                  <a:srgbClr val="59584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e3e5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59584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9584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59584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9584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595841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95841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C79B0-11D6-450E-BB6B-144640F0FD5A}" type="slidenum">
              <a:rPr b="0" lang="en-US" sz="1400" spc="-1" strike="noStrike">
                <a:solidFill>
                  <a:srgbClr val="59584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317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e3e5c"/>
                </a:solidFill>
                <a:latin typeface="Arial"/>
              </a:rPr>
              <a:t>Intel® Cilk</a:t>
            </a:r>
            <a:r>
              <a:rPr b="1" lang="en-US" sz="4400" spc="-1" strike="noStrike" baseline="30000">
                <a:solidFill>
                  <a:srgbClr val="3e3e5c"/>
                </a:solidFill>
                <a:latin typeface="Arial"/>
              </a:rPr>
              <a:t>TM</a:t>
            </a:r>
            <a:r>
              <a:rPr b="1" lang="en-US" sz="4400" spc="-1" strike="noStrike">
                <a:solidFill>
                  <a:srgbClr val="3e3e5c"/>
                </a:solidFill>
                <a:latin typeface="Arial"/>
              </a:rPr>
              <a:t> Plus</a:t>
            </a:r>
            <a:br>
              <a:rPr sz="4400"/>
            </a:br>
            <a:r>
              <a:rPr b="1" lang="ru-RU" sz="4400" spc="-1" strike="noStrike">
                <a:solidFill>
                  <a:srgbClr val="3e3e5c"/>
                </a:solidFill>
                <a:latin typeface="Arial"/>
              </a:rPr>
              <a:t>Основная часть</a:t>
            </a:r>
            <a:br>
              <a:rPr sz="4400"/>
            </a:br>
            <a:br>
              <a:rPr sz="4400"/>
            </a:b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Лекция</a:t>
            </a:r>
            <a:r>
              <a:rPr b="1" lang="en-US" sz="2800" spc="-1" strike="noStrike">
                <a:solidFill>
                  <a:srgbClr val="3e3e5c"/>
                </a:solidFill>
                <a:latin typeface="Arial"/>
              </a:rPr>
              <a:t> 3</a:t>
            </a:r>
            <a:r>
              <a:rPr b="1" lang="ru-RU" sz="2800" spc="-1" strike="noStrike">
                <a:solidFill>
                  <a:srgbClr val="3e3e5c"/>
                </a:solidFill>
                <a:latin typeface="Arial"/>
              </a:rPr>
              <a:t>. Расширенная индексная нотация</a:t>
            </a:r>
            <a:endParaRPr b="1" lang="en-US" sz="2800" spc="-1" strike="noStrike">
              <a:solidFill>
                <a:srgbClr val="3e3e5c"/>
              </a:solidFill>
              <a:latin typeface="Arial"/>
            </a:endParaRPr>
          </a:p>
        </p:txBody>
      </p:sp>
      <p:sp>
        <p:nvSpPr>
          <p:cNvPr id="83" name="Rectangle 1026"/>
          <p:cNvSpPr/>
          <p:nvPr/>
        </p:nvSpPr>
        <p:spPr>
          <a:xfrm>
            <a:off x="1332000" y="5192640"/>
            <a:ext cx="64008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595841"/>
                </a:solidFill>
                <a:latin typeface="Arial"/>
              </a:rPr>
              <a:t>Немнюгин Сергей Андрее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66D35-698E-4BF2-B91F-A13F77D111C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62"/>
          <p:cNvSpPr/>
          <p:nvPr/>
        </p:nvSpPr>
        <p:spPr>
          <a:xfrm>
            <a:off x="299160" y="2473200"/>
            <a:ext cx="8521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элементные векторные операци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7C6E2-3742-4A00-AAFB-942B2312EB0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4"/>
          <p:cNvSpPr/>
          <p:nvPr/>
        </p:nvSpPr>
        <p:spPr>
          <a:xfrm>
            <a:off x="611280" y="1052640"/>
            <a:ext cx="496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[:]+b[: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" name="Group 5"/>
          <p:cNvGrpSpPr/>
          <p:nvPr/>
        </p:nvGrpSpPr>
        <p:grpSpPr>
          <a:xfrm>
            <a:off x="1547640" y="2852640"/>
            <a:ext cx="5832000" cy="2447640"/>
            <a:chOff x="1547640" y="2852640"/>
            <a:chExt cx="5832000" cy="2447640"/>
          </a:xfrm>
        </p:grpSpPr>
        <p:sp>
          <p:nvSpPr>
            <p:cNvPr id="107" name="Rectangle 6"/>
            <p:cNvSpPr/>
            <p:nvPr/>
          </p:nvSpPr>
          <p:spPr>
            <a:xfrm>
              <a:off x="1974240" y="285264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7"/>
            <p:cNvSpPr/>
            <p:nvPr/>
          </p:nvSpPr>
          <p:spPr>
            <a:xfrm>
              <a:off x="2685240" y="285264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8"/>
            <p:cNvSpPr/>
            <p:nvPr/>
          </p:nvSpPr>
          <p:spPr>
            <a:xfrm>
              <a:off x="3396240" y="285264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9"/>
            <p:cNvSpPr/>
            <p:nvPr/>
          </p:nvSpPr>
          <p:spPr>
            <a:xfrm>
              <a:off x="4107960" y="285264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10"/>
            <p:cNvSpPr/>
            <p:nvPr/>
          </p:nvSpPr>
          <p:spPr>
            <a:xfrm>
              <a:off x="4819320" y="285264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1"/>
            <p:cNvSpPr/>
            <p:nvPr/>
          </p:nvSpPr>
          <p:spPr>
            <a:xfrm>
              <a:off x="5530320" y="285264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2"/>
            <p:cNvSpPr/>
            <p:nvPr/>
          </p:nvSpPr>
          <p:spPr>
            <a:xfrm>
              <a:off x="6242040" y="285264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3"/>
            <p:cNvSpPr/>
            <p:nvPr/>
          </p:nvSpPr>
          <p:spPr>
            <a:xfrm>
              <a:off x="6953040" y="285264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4"/>
            <p:cNvSpPr/>
            <p:nvPr/>
          </p:nvSpPr>
          <p:spPr>
            <a:xfrm>
              <a:off x="1547640" y="366840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5"/>
            <p:cNvSpPr/>
            <p:nvPr/>
          </p:nvSpPr>
          <p:spPr>
            <a:xfrm>
              <a:off x="2258640" y="366840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6"/>
            <p:cNvSpPr/>
            <p:nvPr/>
          </p:nvSpPr>
          <p:spPr>
            <a:xfrm>
              <a:off x="2969640" y="366840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7"/>
            <p:cNvSpPr/>
            <p:nvPr/>
          </p:nvSpPr>
          <p:spPr>
            <a:xfrm>
              <a:off x="3681360" y="366840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8"/>
            <p:cNvSpPr/>
            <p:nvPr/>
          </p:nvSpPr>
          <p:spPr>
            <a:xfrm>
              <a:off x="4392360" y="366840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9"/>
            <p:cNvSpPr/>
            <p:nvPr/>
          </p:nvSpPr>
          <p:spPr>
            <a:xfrm>
              <a:off x="5103360" y="366840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20"/>
            <p:cNvSpPr/>
            <p:nvPr/>
          </p:nvSpPr>
          <p:spPr>
            <a:xfrm>
              <a:off x="5815080" y="366840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1"/>
            <p:cNvSpPr/>
            <p:nvPr/>
          </p:nvSpPr>
          <p:spPr>
            <a:xfrm>
              <a:off x="6526440" y="3668400"/>
              <a:ext cx="426600" cy="407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2"/>
            <p:cNvSpPr/>
            <p:nvPr/>
          </p:nvSpPr>
          <p:spPr>
            <a:xfrm>
              <a:off x="1974240" y="4892400"/>
              <a:ext cx="426600" cy="4078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23"/>
            <p:cNvSpPr/>
            <p:nvPr/>
          </p:nvSpPr>
          <p:spPr>
            <a:xfrm>
              <a:off x="2685240" y="4892400"/>
              <a:ext cx="426600" cy="4078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Rectangle 24"/>
            <p:cNvSpPr/>
            <p:nvPr/>
          </p:nvSpPr>
          <p:spPr>
            <a:xfrm>
              <a:off x="3396240" y="4892400"/>
              <a:ext cx="426600" cy="4078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Rectangle 25"/>
            <p:cNvSpPr/>
            <p:nvPr/>
          </p:nvSpPr>
          <p:spPr>
            <a:xfrm>
              <a:off x="4107960" y="4892400"/>
              <a:ext cx="426600" cy="4078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26"/>
            <p:cNvSpPr/>
            <p:nvPr/>
          </p:nvSpPr>
          <p:spPr>
            <a:xfrm>
              <a:off x="4819320" y="4892400"/>
              <a:ext cx="426600" cy="4078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Rectangle 27"/>
            <p:cNvSpPr/>
            <p:nvPr/>
          </p:nvSpPr>
          <p:spPr>
            <a:xfrm>
              <a:off x="5530320" y="4892400"/>
              <a:ext cx="426600" cy="4078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Rectangle 28"/>
            <p:cNvSpPr/>
            <p:nvPr/>
          </p:nvSpPr>
          <p:spPr>
            <a:xfrm>
              <a:off x="6242040" y="4892400"/>
              <a:ext cx="426600" cy="4078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29"/>
            <p:cNvSpPr/>
            <p:nvPr/>
          </p:nvSpPr>
          <p:spPr>
            <a:xfrm>
              <a:off x="6953040" y="4892400"/>
              <a:ext cx="426600" cy="407880"/>
            </a:xfrm>
            <a:prstGeom prst="rect">
              <a:avLst/>
            </a:prstGeom>
            <a:solidFill>
              <a:srgbClr val="6666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Text Box 30"/>
            <p:cNvSpPr/>
            <p:nvPr/>
          </p:nvSpPr>
          <p:spPr>
            <a:xfrm>
              <a:off x="1796040" y="4019760"/>
              <a:ext cx="6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Text Box 31"/>
            <p:cNvSpPr/>
            <p:nvPr/>
          </p:nvSpPr>
          <p:spPr>
            <a:xfrm>
              <a:off x="2504520" y="4019760"/>
              <a:ext cx="61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Text Box 32"/>
            <p:cNvSpPr/>
            <p:nvPr/>
          </p:nvSpPr>
          <p:spPr>
            <a:xfrm>
              <a:off x="3219120" y="4019760"/>
              <a:ext cx="6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Text Box 33"/>
            <p:cNvSpPr/>
            <p:nvPr/>
          </p:nvSpPr>
          <p:spPr>
            <a:xfrm>
              <a:off x="3930120" y="4019760"/>
              <a:ext cx="6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Text Box 34"/>
            <p:cNvSpPr/>
            <p:nvPr/>
          </p:nvSpPr>
          <p:spPr>
            <a:xfrm>
              <a:off x="4641120" y="4019760"/>
              <a:ext cx="604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Text Box 35"/>
            <p:cNvSpPr/>
            <p:nvPr/>
          </p:nvSpPr>
          <p:spPr>
            <a:xfrm>
              <a:off x="5352840" y="4019760"/>
              <a:ext cx="6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Text Box 36"/>
            <p:cNvSpPr/>
            <p:nvPr/>
          </p:nvSpPr>
          <p:spPr>
            <a:xfrm>
              <a:off x="6061320" y="4019760"/>
              <a:ext cx="60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Text Box 37"/>
            <p:cNvSpPr/>
            <p:nvPr/>
          </p:nvSpPr>
          <p:spPr>
            <a:xfrm>
              <a:off x="6772320" y="4019760"/>
              <a:ext cx="607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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Line 38"/>
            <p:cNvSpPr/>
            <p:nvPr/>
          </p:nvSpPr>
          <p:spPr>
            <a:xfrm>
              <a:off x="2116080" y="3395880"/>
              <a:ext cx="0" cy="81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Line 39"/>
            <p:cNvSpPr/>
            <p:nvPr/>
          </p:nvSpPr>
          <p:spPr>
            <a:xfrm>
              <a:off x="2827800" y="3395880"/>
              <a:ext cx="0" cy="81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Line 40"/>
            <p:cNvSpPr/>
            <p:nvPr/>
          </p:nvSpPr>
          <p:spPr>
            <a:xfrm>
              <a:off x="3538800" y="3395880"/>
              <a:ext cx="0" cy="81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Line 41"/>
            <p:cNvSpPr/>
            <p:nvPr/>
          </p:nvSpPr>
          <p:spPr>
            <a:xfrm>
              <a:off x="4249800" y="3395880"/>
              <a:ext cx="0" cy="81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Line 42"/>
            <p:cNvSpPr/>
            <p:nvPr/>
          </p:nvSpPr>
          <p:spPr>
            <a:xfrm>
              <a:off x="4961520" y="3395880"/>
              <a:ext cx="0" cy="81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Line 43"/>
            <p:cNvSpPr/>
            <p:nvPr/>
          </p:nvSpPr>
          <p:spPr>
            <a:xfrm>
              <a:off x="5672880" y="3395880"/>
              <a:ext cx="0" cy="81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Line 44"/>
            <p:cNvSpPr/>
            <p:nvPr/>
          </p:nvSpPr>
          <p:spPr>
            <a:xfrm>
              <a:off x="6383880" y="3395880"/>
              <a:ext cx="0" cy="81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Line 45"/>
            <p:cNvSpPr/>
            <p:nvPr/>
          </p:nvSpPr>
          <p:spPr>
            <a:xfrm>
              <a:off x="7095600" y="3395880"/>
              <a:ext cx="0" cy="815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Line 46"/>
            <p:cNvSpPr/>
            <p:nvPr/>
          </p:nvSpPr>
          <p:spPr>
            <a:xfrm>
              <a:off x="1831680" y="4212000"/>
              <a:ext cx="14220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Line 47"/>
            <p:cNvSpPr/>
            <p:nvPr/>
          </p:nvSpPr>
          <p:spPr>
            <a:xfrm>
              <a:off x="2542680" y="4212000"/>
              <a:ext cx="14220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Line 48"/>
            <p:cNvSpPr/>
            <p:nvPr/>
          </p:nvSpPr>
          <p:spPr>
            <a:xfrm>
              <a:off x="3254400" y="4212000"/>
              <a:ext cx="14148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49"/>
            <p:cNvSpPr/>
            <p:nvPr/>
          </p:nvSpPr>
          <p:spPr>
            <a:xfrm>
              <a:off x="3965760" y="4212000"/>
              <a:ext cx="14220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50"/>
            <p:cNvSpPr/>
            <p:nvPr/>
          </p:nvSpPr>
          <p:spPr>
            <a:xfrm>
              <a:off x="4676760" y="4212000"/>
              <a:ext cx="14220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51"/>
            <p:cNvSpPr/>
            <p:nvPr/>
          </p:nvSpPr>
          <p:spPr>
            <a:xfrm>
              <a:off x="5388480" y="4212000"/>
              <a:ext cx="14148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Line 52"/>
            <p:cNvSpPr/>
            <p:nvPr/>
          </p:nvSpPr>
          <p:spPr>
            <a:xfrm>
              <a:off x="6099480" y="4212000"/>
              <a:ext cx="14220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Line 53"/>
            <p:cNvSpPr/>
            <p:nvPr/>
          </p:nvSpPr>
          <p:spPr>
            <a:xfrm>
              <a:off x="6810480" y="4212000"/>
              <a:ext cx="14220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54"/>
            <p:cNvSpPr/>
            <p:nvPr/>
          </p:nvSpPr>
          <p:spPr>
            <a:xfrm>
              <a:off x="2116080" y="4619880"/>
              <a:ext cx="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55"/>
            <p:cNvSpPr/>
            <p:nvPr/>
          </p:nvSpPr>
          <p:spPr>
            <a:xfrm>
              <a:off x="2827800" y="4619880"/>
              <a:ext cx="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Line 56"/>
            <p:cNvSpPr/>
            <p:nvPr/>
          </p:nvSpPr>
          <p:spPr>
            <a:xfrm>
              <a:off x="3538800" y="4619880"/>
              <a:ext cx="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Line 57"/>
            <p:cNvSpPr/>
            <p:nvPr/>
          </p:nvSpPr>
          <p:spPr>
            <a:xfrm>
              <a:off x="4249800" y="4619880"/>
              <a:ext cx="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Line 58"/>
            <p:cNvSpPr/>
            <p:nvPr/>
          </p:nvSpPr>
          <p:spPr>
            <a:xfrm>
              <a:off x="4961520" y="4619880"/>
              <a:ext cx="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Line 59"/>
            <p:cNvSpPr/>
            <p:nvPr/>
          </p:nvSpPr>
          <p:spPr>
            <a:xfrm>
              <a:off x="5672880" y="4619880"/>
              <a:ext cx="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Line 60"/>
            <p:cNvSpPr/>
            <p:nvPr/>
          </p:nvSpPr>
          <p:spPr>
            <a:xfrm>
              <a:off x="6383880" y="4619880"/>
              <a:ext cx="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Line 61"/>
            <p:cNvSpPr/>
            <p:nvPr/>
          </p:nvSpPr>
          <p:spPr>
            <a:xfrm>
              <a:off x="7095600" y="4619880"/>
              <a:ext cx="0" cy="136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81CF-D8FF-4A6B-9AA5-78321876730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Content Placeholder 2"/>
          <p:cNvSpPr/>
          <p:nvPr/>
        </p:nvSpPr>
        <p:spPr>
          <a:xfrm>
            <a:off x="304920" y="1268280"/>
            <a:ext cx="570708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iostream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main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a[4] = {1.,2.,3.,4.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b[4] = {5.,7.,11.,13.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c[4] = {0.,0.,0.,0.}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</a:t>
            </a:r>
            <a:r>
              <a:rPr b="0" lang="ru-RU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Вывод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a:\n" &lt;&lt; a[:] &lt;&lt; " 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</a:t>
            </a:r>
            <a:r>
              <a:rPr b="0" lang="ru-RU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Вывод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b:\n" &lt;&lt; b[:] &lt;&lt; " 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</a:t>
            </a:r>
            <a:r>
              <a:rPr b="0" lang="ru-RU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Вывод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c:\n" &lt;&lt; c[:] &lt;&lt; " 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c[:] = a[:] + b[: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c = a + b:\n" &lt;&lt; c[:] &lt;&lt; " 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itle 1"/>
          <p:cNvSpPr/>
          <p:nvPr/>
        </p:nvSpPr>
        <p:spPr>
          <a:xfrm>
            <a:off x="455760" y="158760"/>
            <a:ext cx="82310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. Сложение двух массив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4059B-A70C-47BA-9935-A6E26296A272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250920" y="836640"/>
            <a:ext cx="6481800" cy="59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iostrea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main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bool x[4] = {0, 0, 1, 1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bool y[4] = {0, 1, 1, 0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a[4] = {1.,2.,3.,4.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b[4] = {5.,7.,11.,13.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double c[4] = {0.,0.,0.,0.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</a:t>
            </a: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Вывод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a:\n" &lt;&lt; a[:] &lt;&lt; " 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</a:t>
            </a: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Вывод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b:\n" &lt;&lt; b[:] &lt;&lt; " 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</a:t>
            </a: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Вывод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до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:\n" &lt;&lt; c[:] &lt;&lt; " 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c[:] = x[:] &amp;&amp; y[:] ? a[:] : b[: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Neo Sans Intel Medium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6666ff"/>
                </a:solidFill>
                <a:latin typeface="Courier New"/>
                <a:ea typeface="Courier New"/>
              </a:rPr>
              <a:t>	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</a:t>
            </a: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Вывод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после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c:\n" &lt;&lt; c[:] &lt;&lt; " 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455760" y="44280"/>
            <a:ext cx="8231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. Операции с маск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7572-DAAB-4609-81EB-595D2C7BDC1D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Content Placeholder 2"/>
          <p:cNvSpPr/>
          <p:nvPr/>
        </p:nvSpPr>
        <p:spPr>
          <a:xfrm>
            <a:off x="250920" y="981000"/>
            <a:ext cx="8642160" cy="56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pmmintrin.h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foo(float* dest, short* src, long len, float a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__m128 xmmMul = _mm_set1_ps(a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or(long i = 0; i &lt; len; i+=8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__m128i xmmSrc1i = _mm_loadl_epi64((__m128i*) &amp;src[i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__m128i xmmSrc2i = _mm_loadl_epi64((__m128i*) &amp;src[i+4]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xmmSrc1i = _mm_cvtepi16_epi32(xmmSrc1i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xmmSrc2i = _mm_cvtepi16_epi32(xmmSrc2i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__m128 xmmSrc1f = _mm_cvtepi32_ps(xmmSrc1i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__m128 xmmSrc2f = _mm_cvtepi32_ps(xmmSrc2i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xmmSrc1f = _mm_mul_ps(xmmSrc1f, xmmMul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xmmSrc2f = _mm_mul_ps(xmmSrc2f, xmmMul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_mm_store_ps(&amp;dest[i], xmmSrc1f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_mm_store_ps(&amp;dest[i+4], xmmSrc2f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itle 1"/>
          <p:cNvSpPr/>
          <p:nvPr/>
        </p:nvSpPr>
        <p:spPr>
          <a:xfrm>
            <a:off x="455760" y="44280"/>
            <a:ext cx="823104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. Реализация со встроенными функциям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A2990-240B-4A6B-90B7-5ADF9FCC682E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Content Placeholder 2"/>
          <p:cNvSpPr/>
          <p:nvPr/>
        </p:nvSpPr>
        <p:spPr>
          <a:xfrm>
            <a:off x="250920" y="907920"/>
            <a:ext cx="82818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Интринсики (встроенные функци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ovq      (%rsi,%rax,2), %xmm1                          #9.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ovq      8(%rsi,%rax,2), %xmm2                         #10.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pmovsxwd  %xmm1, %xmm1                                  #9.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pmovsxwd  %xmm2, %xmm2                         </a:t>
            </a:r>
            <a:r>
              <a:rPr b="0" lang="ru-RU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#10.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cvtdq2ps  %xmm1, %xmm3                                  #12.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cvtdq2ps  %xmm2, %xmm4                                  #13.2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ulps     %xmm0, %xmm3                                  #15.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ulps     %xmm0, %xmm4                                  #16.1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ovaps    %xmm3, (%rdi,%rax,4)                          #18.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ovaps    %xmm4, 16(%rdi,%rax,4)     </a:t>
            </a:r>
            <a:r>
              <a:rPr b="0" lang="ru-RU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,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        #19.2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addq      $8, %rax                                      #5.3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cmpq      %rdx, %rax                                    #5.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jl        ..B1.3        # Prob 82%                      #5.2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Title 1"/>
          <p:cNvSpPr/>
          <p:nvPr/>
        </p:nvSpPr>
        <p:spPr>
          <a:xfrm>
            <a:off x="324000" y="44280"/>
            <a:ext cx="85089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равнение машинных кодов для обеих реализ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2DD74-6194-49EB-A9A4-D7875F32B7C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Content Placeholder 2"/>
          <p:cNvSpPr/>
          <p:nvPr/>
        </p:nvSpPr>
        <p:spPr>
          <a:xfrm>
            <a:off x="250920" y="907920"/>
            <a:ext cx="8281800" cy="38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Индексная нотац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ovq      (%rsi,%rcx,2), %xmm2                          #2.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pmovsxwd  %xmm2, %xmm2                                  #2.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cvtdq2ps  %xmm2, %xmm3                                  #2.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ulps     %xmm1, %xmm3                                  #2.5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ovaps    %xmm3, (%rdi,%rcx,4)                          #2.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ovq      8(%rsi,%rcx,2), %xmm4                         #2.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pmovsxwd  %xmm4, %xmm4                                  #2.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cvtdq2ps  %xmm4, %xmm5                                  #2.4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ulps     %xmm1, %xmm5                                  #2.5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movaps    %xmm5, 16(%rdi,%rcx,4)  </a:t>
            </a:r>
            <a:r>
              <a:rPr b="0" lang="ru-RU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,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          #2.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addq      $8, %rcx                                      #2.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cmpq      %r8, %rcx                                     #2.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1f1f2e"/>
                </a:solidFill>
                <a:latin typeface="Courier New"/>
                <a:ea typeface="Courier New"/>
              </a:rPr>
              <a:t>jb        ..B1.15       # Prob 44%                      #2.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itle 1"/>
          <p:cNvSpPr/>
          <p:nvPr/>
        </p:nvSpPr>
        <p:spPr>
          <a:xfrm>
            <a:off x="455760" y="44280"/>
            <a:ext cx="8508960" cy="88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равнение машинных кодов для обеих реализац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42620-5692-4C1A-8147-2C32DE7700A6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Text Box 155"/>
          <p:cNvSpPr/>
          <p:nvPr/>
        </p:nvSpPr>
        <p:spPr>
          <a:xfrm>
            <a:off x="755640" y="2421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сбор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я данны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9BC7C-C99B-4BDC-A567-DC96E3161A7B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4"/>
          <p:cNvSpPr/>
          <p:nvPr/>
        </p:nvSpPr>
        <p:spPr>
          <a:xfrm>
            <a:off x="395280" y="1125360"/>
            <a:ext cx="8424720" cy="41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ачестве индекса массива можно использовать сечение массива. Элементы сечения в этом случае определят множество значений индекс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a[b[0:s]] = c[:] // a[b[0]]=c[0],a[b[1]]=c[1],…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[0:s] = a[b[:]] // c[0]=a[b[0]],c[1]=a[b[1]],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мпилятор при использовании таких конструкций генерирует машинный код операций сбора и распределения данных для соответствующей целевой архитектур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2CBE7-26D7-4E6B-B386-174CF2681ED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Content Placeholder 2"/>
          <p:cNvSpPr/>
          <p:nvPr/>
        </p:nvSpPr>
        <p:spPr>
          <a:xfrm>
            <a:off x="108000" y="907920"/>
            <a:ext cx="8891640" cy="587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fnc</a:t>
            </a:r>
            <a:r>
              <a:rPr b="0" lang="ru-RU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(float *dest, float *src, unsigned int *ind_dest, unsigned int *ind_src, int len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dest[ind_dest[0:len]] = src[ind_src[0:len]]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#include &lt;iostream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foo(float *dest, float *src, unsigned int *ind_dest, unsigned int *ind_src, int len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int main(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loat x[5] = {1., 2., 3., 4., 5.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loat y[5] = {0., 0., 0., 0., 0.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unsigned int y_ind[5] = {4,3,2,1,0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unsigned int x_ind[5] = {1, 3, 0, 2, 4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x: " &lt;&lt; x[:] &lt;&lt; " 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y: " &lt;&lt; y[:] &lt;&lt; " 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fnc1(y, x, y_ind, x_ind, 5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"y: " &lt;&lt; y[:] &lt;&lt; " 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std::cout &lt;&lt; std::endl &lt;&lt; std::end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   </a:t>
            </a: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return(0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itle 1"/>
          <p:cNvSpPr/>
          <p:nvPr/>
        </p:nvSpPr>
        <p:spPr>
          <a:xfrm>
            <a:off x="455760" y="-27000"/>
            <a:ext cx="8231040" cy="88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 использования операций распределения</a:t>
            </a:r>
            <a:r>
              <a:rPr b="1" lang="en-US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/</a:t>
            </a:r>
            <a:r>
              <a:rPr b="1" lang="ru-RU" sz="28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бора данных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F3266-12CA-4194-BFBB-C323942108C8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304920" y="2286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1f1f2e"/>
                </a:solidFill>
                <a:latin typeface="Arial"/>
              </a:rPr>
              <a:t>Содержание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304920" y="1523880"/>
            <a:ext cx="8610480" cy="32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ширенная индексная нотац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оэлементные векторные операц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Сбор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пределение элементов масс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 многомерных массива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Массивы как аргумент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1f1f2e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Пример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11CB-21CB-46D7-8039-930E482CB98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155"/>
          <p:cNvSpPr/>
          <p:nvPr/>
        </p:nvSpPr>
        <p:spPr>
          <a:xfrm>
            <a:off x="755640" y="242100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ции линейног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иклического сдвиг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637C-63CF-4A93-9499-5DEE5B786D6E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Rectangle 4"/>
          <p:cNvSpPr/>
          <p:nvPr/>
        </p:nvSpPr>
        <p:spPr>
          <a:xfrm>
            <a:off x="395280" y="1125360"/>
            <a:ext cx="8424720" cy="28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иваются операции линейного и циклического («ротация») сдвиг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b[:] = __sec_shift(a[:], shift_val, fill_valu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b[:] = __sec_rotate(a[:], shift_val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аметр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hift_v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ределяет величину сдвига, 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ill_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чение, которым заполняются «освободившиеся» позиции массив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BB91E-71D7-4E2C-8860-7CB12A4F1731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155"/>
          <p:cNvSpPr/>
          <p:nvPr/>
        </p:nvSpPr>
        <p:spPr>
          <a:xfrm>
            <a:off x="755640" y="242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 многомерных массивах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2507-5EBC-4176-954F-41A1625825F0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395280" y="1125360"/>
            <a:ext cx="8424720" cy="50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работы с сечениями многомерных массивов компилятору необходимо «знать» форму масси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/C++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сть следующие способы описания формы массив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ив фиксированного размера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float a[100][50]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намический масси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typedef int (*a2d)[10]; // 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указатель на вект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a2d *p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p = (a2d) malloc(sizeof(int)*rows*1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p[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5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][:] = 42;  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задать элементы 5-й строк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p[0:rows][:] = 42;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задать все элементы массив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p[:][:] = 42;      // 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ошибка (размер строки долж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       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быть задан явно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6B236-67A0-4977-8F71-FA3D8E21EAD5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155"/>
          <p:cNvSpPr/>
          <p:nvPr/>
        </p:nvSpPr>
        <p:spPr>
          <a:xfrm>
            <a:off x="755640" y="242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ивы как аргумент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5194D-C7B6-4A1E-A64E-03A6E8DA7130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Rectangle 4"/>
          <p:cNvSpPr/>
          <p:nvPr/>
        </p:nvSpPr>
        <p:spPr>
          <a:xfrm>
            <a:off x="395280" y="1125360"/>
            <a:ext cx="8424720" cy="44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чение массива можно использовать в качестве аргумента функц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тические и формальные аргументы должны быть согласован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saxpy_vec(int m, float a, float restrict x[m], float restrict y[m]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y[:] += a * x[: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cilk_for(int i = 0; i &lt; n; i += 256)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axpy_vec(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112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1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7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x[i],&amp;y[i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77949-8A9C-4533-81A0-450127E08F78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155"/>
          <p:cNvSpPr/>
          <p:nvPr/>
        </p:nvSpPr>
        <p:spPr>
          <a:xfrm>
            <a:off x="468360" y="2421000"/>
            <a:ext cx="784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9F365-253F-40B7-BA30-279076582F24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395280" y="1125360"/>
            <a:ext cx="8424720" cy="55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дификация подматрицы размером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m x 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чиная с элемента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(i, j)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vx[i:m][j:n] += a*(U[i:m][j+1:n]-U[i:m][j:n]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элементной функц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theta[0:n] = atan2(y[0:n],1.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бор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ределение данны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w[0:n] = x[i[0:n]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y[i[0:n]] = z[0:n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219E7-0F7D-44B9-A74B-0ECEF44CFA1B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395280" y="1125360"/>
            <a:ext cx="8424720" cy="38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сечения массива в условном операторе (выполняются обе ветви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i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f(a[0:n] &lt; b[0:n]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[0:n] +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[0:n] -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421F5-6CE8-4478-9876-64D585F0C5D0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55"/>
          <p:cNvSpPr/>
          <p:nvPr/>
        </p:nvSpPr>
        <p:spPr>
          <a:xfrm>
            <a:off x="755640" y="2602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р. Умножение полиномов </a:t>
            </a:r>
            <a:r>
              <a:rPr b="0" lang="en-US" sz="3200" spc="-1" strike="noStrike">
                <a:solidFill>
                  <a:srgbClr val="1f1f2e"/>
                </a:solidFill>
                <a:latin typeface="Arial"/>
              </a:rPr>
              <a:t>c = a</a:t>
            </a:r>
            <a:r>
              <a:rPr b="0" lang="en-US" sz="3200" spc="-1" strike="noStrike">
                <a:solidFill>
                  <a:srgbClr val="1f1f2e"/>
                </a:solidFill>
                <a:latin typeface="Symbol"/>
                <a:ea typeface="Symbol"/>
              </a:rPr>
              <a:t></a:t>
            </a:r>
            <a:r>
              <a:rPr b="0" lang="en-US" sz="3200" spc="-1" strike="noStrike">
                <a:solidFill>
                  <a:srgbClr val="1f1f2e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1332000" y="1773360"/>
          <a:ext cx="6408720" cy="3456000"/>
        </p:xfrm>
        <a:graphic>
          <a:graphicData uri="http://schemas.openxmlformats.org/drawingml/2006/table">
            <a:tbl>
              <a:tblPr/>
              <a:tblGrid>
                <a:gridCol w="831600"/>
                <a:gridCol w="312840"/>
                <a:gridCol w="833400"/>
                <a:gridCol w="311400"/>
                <a:gridCol w="833400"/>
                <a:gridCol w="236520"/>
                <a:gridCol w="833400"/>
                <a:gridCol w="311040"/>
                <a:gridCol w="833400"/>
                <a:gridCol w="1071720"/>
              </a:tblGrid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2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b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0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4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5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10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4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8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12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4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2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3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1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4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6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16x</a:t>
                      </a:r>
                      <a:r>
                        <a:rPr b="0" lang="en-US" sz="2400" spc="-1" strike="noStrike" baseline="30000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22x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1f1f2e"/>
                          </a:solidFill>
                          <a:latin typeface="Times New Roman"/>
                          <a:ea typeface="Times New Roman"/>
                        </a:rPr>
                        <a:t>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55B99-CECE-49B6-834B-23A1FC4CF2FF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Rectangle 2"/>
          <p:cNvSpPr/>
          <p:nvPr/>
        </p:nvSpPr>
        <p:spPr>
          <a:xfrm>
            <a:off x="684360" y="2205000"/>
            <a:ext cx="780876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95120" indent="-195120" algn="ctr">
              <a:lnSpc>
                <a:spcPct val="100000"/>
              </a:lnSpc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ширенная индексная нотация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436CD-1114-475D-BB8B-641BC71F26B0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55"/>
          <p:cNvSpPr/>
          <p:nvPr/>
        </p:nvSpPr>
        <p:spPr>
          <a:xfrm>
            <a:off x="539640" y="95076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ранение коэффициен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1116000" y="1916280"/>
          <a:ext cx="6624720" cy="3240000"/>
        </p:xfrm>
        <a:graphic>
          <a:graphicData uri="http://schemas.openxmlformats.org/drawingml/2006/table">
            <a:tbl>
              <a:tblPr/>
              <a:tblGrid>
                <a:gridCol w="1104840"/>
                <a:gridCol w="1103400"/>
                <a:gridCol w="1104840"/>
                <a:gridCol w="1103400"/>
                <a:gridCol w="1104840"/>
                <a:gridCol w="110340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b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b[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b[0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a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a[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a[0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1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75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75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575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5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5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575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7578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c[4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c[3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c[2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c[1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c[0]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1f1f2e"/>
                          </a:solidFill>
                          <a:latin typeface="Arial"/>
                        </a:rPr>
                        <a:t>c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F039-F9D7-4333-9FFA-BCAAE4264870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155"/>
          <p:cNvSpPr/>
          <p:nvPr/>
        </p:nvSpPr>
        <p:spPr>
          <a:xfrm>
            <a:off x="611280" y="549360"/>
            <a:ext cx="7848360" cy="369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торная реализация (сложность </a:t>
            </a:r>
            <a:r>
              <a:rPr b="0" lang="en-US" sz="2400" spc="-1" strike="noStrike">
                <a:solidFill>
                  <a:srgbClr val="1f1f2e"/>
                </a:solidFill>
                <a:latin typeface="Symbol"/>
                <a:ea typeface="Symbol"/>
              </a:rPr>
              <a:t></a:t>
            </a:r>
            <a:r>
              <a:rPr b="0" lang="en-US" sz="2400" spc="-1" strike="noStrike">
                <a:solidFill>
                  <a:srgbClr val="1f1f2e"/>
                </a:solidFill>
                <a:latin typeface="Arial"/>
              </a:rPr>
              <a:t>(n</a:t>
            </a:r>
            <a:r>
              <a:rPr b="0" lang="en-US" sz="2400" spc="-1" strike="noStrike" baseline="30000">
                <a:solidFill>
                  <a:srgbClr val="1f1f2e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1f1f2e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simple_mul( T c[], const T a[], const T b[], size_t n ) {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[0:2*n-1]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</a:t>
            </a:r>
            <a:r>
              <a:rPr b="0" lang="nn-NO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for (size_t i=0; i&lt;n; ++i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  </a:t>
            </a: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c[i:n] += a[i]*b[0:n]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DEA57-8F2B-47D7-AD53-7E200188D9F3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Text Box 155"/>
          <p:cNvSpPr/>
          <p:nvPr/>
        </p:nvSpPr>
        <p:spPr>
          <a:xfrm>
            <a:off x="611280" y="549360"/>
            <a:ext cx="7848360" cy="62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 Карацубы (сложность </a:t>
            </a:r>
            <a:r>
              <a:rPr b="1" lang="en-US" sz="2400" spc="-1" strike="noStrike">
                <a:solidFill>
                  <a:srgbClr val="1f1f2e"/>
                </a:solidFill>
                <a:latin typeface="Symbol"/>
                <a:ea typeface="Symbol"/>
              </a:rPr>
              <a:t></a:t>
            </a:r>
            <a:r>
              <a:rPr b="1" lang="en-US" sz="2400" spc="-1" strike="noStrike">
                <a:solidFill>
                  <a:srgbClr val="1f1f2e"/>
                </a:solidFill>
                <a:latin typeface="Arial"/>
              </a:rPr>
              <a:t>(n</a:t>
            </a:r>
            <a:r>
              <a:rPr b="1" lang="ru-RU" sz="2400" spc="-1" strike="noStrike" baseline="30000">
                <a:solidFill>
                  <a:srgbClr val="1f1f2e"/>
                </a:solidFill>
                <a:latin typeface="Arial"/>
              </a:rPr>
              <a:t>1.5</a:t>
            </a:r>
            <a:r>
              <a:rPr b="1" lang="en-US" sz="2400" spc="-1" strike="noStrike">
                <a:solidFill>
                  <a:srgbClr val="1f1f2e"/>
                </a:solidFill>
                <a:latin typeface="Arial"/>
              </a:rPr>
              <a:t>)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– оптимален для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= 32 – 102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K=x</a:t>
            </a:r>
            <a:r>
              <a:rPr b="0" lang="en-US" sz="2400" spc="-1" strike="noStrike" baseline="30000">
                <a:solidFill>
                  <a:srgbClr val="1f1f2e"/>
                </a:solidFill>
                <a:latin typeface="Symbol"/>
                <a:ea typeface="Symbol"/>
              </a:rPr>
              <a:t></a:t>
            </a:r>
            <a:r>
              <a:rPr b="0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n/2</a:t>
            </a:r>
            <a:r>
              <a:rPr b="0" lang="en-US" sz="2400" spc="-1" strike="noStrike" baseline="30000">
                <a:solidFill>
                  <a:srgbClr val="1f1f2e"/>
                </a:solidFill>
                <a:latin typeface="Symbol"/>
                <a:ea typeface="Symbol"/>
              </a:rPr>
              <a:t>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7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K+a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7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K+b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ычислить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7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1f1f2e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7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1f1f2e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(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+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7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= 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1f1f2e"/>
                </a:solidFill>
                <a:latin typeface="Symbol"/>
                <a:ea typeface="Symbol"/>
              </a:rPr>
              <a:t>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Тогд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676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1f1f2e"/>
                </a:solidFill>
                <a:latin typeface="Symbol"/>
                <a:ea typeface="Symbol"/>
              </a:rPr>
              <a:t>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b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1f1f2e"/>
                </a:solidFill>
                <a:latin typeface="Symbol"/>
                <a:ea typeface="Symbol"/>
              </a:rPr>
              <a:t>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t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K</a:t>
            </a:r>
            <a:r>
              <a:rPr b="0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+ (t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1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-t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0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-t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2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)K + </a:t>
            </a:r>
            <a:r>
              <a:rPr b="0" i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t</a:t>
            </a:r>
            <a:r>
              <a:rPr b="0" lang="en-US" sz="2400" spc="-1" strike="noStrike" baseline="-25000">
                <a:solidFill>
                  <a:srgbClr val="1f1f2e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04BC-7708-4270-B5D2-5AFEB95C3E0F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155"/>
          <p:cNvSpPr/>
          <p:nvPr/>
        </p:nvSpPr>
        <p:spPr>
          <a:xfrm>
            <a:off x="250920" y="409680"/>
            <a:ext cx="8569080" cy="57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с помощью сеч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void karatsuba( T c[], const T a[], const T b[], size_t n 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if( n&lt;=CutOff 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imple_mul( c, a, b, n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 else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size_t m = n/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karatsuba( c, a, b, m );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// 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= 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×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karatsuba( c+2*m, a+m, b+m, n-m );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// 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2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= 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×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emp_space&lt;T&gt; s(4*(n-m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 *a_=s.data(), *b_=a_+(n-m), *t=b_+(n-m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_[0:m] = a[0:m]+a[m:m];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// a_ = (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+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_[0:m] = b[0:m]+b[m:m];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// 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_ = (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+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karatsuba( t, a_, b_, n-m ); </a:t>
            </a:r>
            <a:r>
              <a:rPr b="0" lang="ru-RU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 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// 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= (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+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a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)×(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+</a:t>
            </a:r>
            <a:r>
              <a:rPr b="0" i="1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b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r>
              <a:rPr b="0" lang="pt-BR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[0:2*m-1] -= c[0:2*m-1] + c[2*m:2*m-1];// </a:t>
            </a:r>
            <a:r>
              <a:rPr b="0" i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= </a:t>
            </a:r>
            <a:r>
              <a:rPr b="0" i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-</a:t>
            </a:r>
            <a:r>
              <a:rPr b="0" i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-</a:t>
            </a:r>
            <a:r>
              <a:rPr b="0" i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[2*m-1]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 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c[m:2*m-1] += t[0:2*m-1];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	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// c = 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2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K</a:t>
            </a:r>
            <a:r>
              <a:rPr b="0" lang="en-US" sz="1800" spc="-1" strike="noStrike" baseline="30000">
                <a:solidFill>
                  <a:srgbClr val="1f1f2e"/>
                </a:solidFill>
                <a:latin typeface="Courier New"/>
                <a:ea typeface="Courier New"/>
              </a:rPr>
              <a:t>2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+(</a:t>
            </a:r>
            <a:r>
              <a:rPr b="0" i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1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-</a:t>
            </a:r>
            <a:r>
              <a:rPr b="0" i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-</a:t>
            </a:r>
            <a:r>
              <a:rPr b="0" i="1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2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)K+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Courier New"/>
                <a:ea typeface="Courier New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  </a:t>
            </a: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4CD1F-04D3-4A3F-864F-A8F0E271C5B8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55"/>
          <p:cNvSpPr/>
          <p:nvPr/>
        </p:nvSpPr>
        <p:spPr>
          <a:xfrm>
            <a:off x="539640" y="66348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хема распараллели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"/>
          <p:cNvSpPr/>
          <p:nvPr/>
        </p:nvSpPr>
        <p:spPr>
          <a:xfrm>
            <a:off x="544680" y="3228840"/>
            <a:ext cx="1573200" cy="457200"/>
          </a:xfrm>
          <a:prstGeom prst="rect">
            <a:avLst/>
          </a:prstGeom>
          <a:solidFill>
            <a:srgbClr val="d9e4ff"/>
          </a:solidFill>
          <a:ln w="20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1f1f2e"/>
                </a:solidFill>
                <a:latin typeface="Arial"/>
              </a:rPr>
              <a:t>t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 = </a:t>
            </a:r>
            <a:r>
              <a:rPr b="0" i="1" lang="pt-BR" sz="1800" spc="-1" strike="noStrike">
                <a:solidFill>
                  <a:srgbClr val="1f1f2e"/>
                </a:solidFill>
                <a:latin typeface="Arial"/>
              </a:rPr>
              <a:t>a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Arial"/>
              </a:rPr>
              <a:t>0</a:t>
            </a:r>
            <a:r>
              <a:rPr b="0" lang="pt-BR" sz="1800" spc="-1" strike="noStrike">
                <a:solidFill>
                  <a:srgbClr val="1f1f2e"/>
                </a:solidFill>
                <a:latin typeface="Arial"/>
              </a:rPr>
              <a:t>×</a:t>
            </a:r>
            <a:r>
              <a:rPr b="0" i="1" lang="pt-BR" sz="1800" spc="-1" strike="noStrike">
                <a:solidFill>
                  <a:srgbClr val="1f1f2e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2573280" y="3228840"/>
            <a:ext cx="1573200" cy="457200"/>
          </a:xfrm>
          <a:prstGeom prst="rect">
            <a:avLst/>
          </a:prstGeom>
          <a:solidFill>
            <a:srgbClr val="d9e4ff"/>
          </a:solidFill>
          <a:ln w="20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1f1f2e"/>
                </a:solidFill>
                <a:latin typeface="Arial"/>
              </a:rPr>
              <a:t>t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 = </a:t>
            </a:r>
            <a:r>
              <a:rPr b="0" i="1" lang="pt-BR" sz="1800" spc="-1" strike="noStrike">
                <a:solidFill>
                  <a:srgbClr val="1f1f2e"/>
                </a:solidFill>
                <a:latin typeface="Arial"/>
              </a:rPr>
              <a:t>a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Arial"/>
              </a:rPr>
              <a:t>1</a:t>
            </a:r>
            <a:r>
              <a:rPr b="0" lang="pt-BR" sz="1800" spc="-1" strike="noStrike">
                <a:solidFill>
                  <a:srgbClr val="1f1f2e"/>
                </a:solidFill>
                <a:latin typeface="Arial"/>
              </a:rPr>
              <a:t>×</a:t>
            </a:r>
            <a:r>
              <a:rPr b="0" i="1" lang="pt-BR" sz="1800" spc="-1" strike="noStrike">
                <a:solidFill>
                  <a:srgbClr val="1f1f2e"/>
                </a:solidFill>
                <a:latin typeface="Arial"/>
              </a:rPr>
              <a:t>b</a:t>
            </a:r>
            <a:r>
              <a:rPr b="0" lang="pt-BR" sz="1800" spc="-1" strike="noStrike" baseline="-25000">
                <a:solidFill>
                  <a:srgbClr val="1f1f2e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8"/>
          <p:cNvSpPr/>
          <p:nvPr/>
        </p:nvSpPr>
        <p:spPr>
          <a:xfrm>
            <a:off x="4500720" y="3308400"/>
            <a:ext cx="2869920" cy="457200"/>
          </a:xfrm>
          <a:prstGeom prst="rect">
            <a:avLst/>
          </a:prstGeom>
          <a:solidFill>
            <a:srgbClr val="d9e4ff"/>
          </a:solidFill>
          <a:ln w="20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 = (</a:t>
            </a: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a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1f1f2e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+</a:t>
            </a: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b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30"/>
          <p:cNvSpPr/>
          <p:nvPr/>
        </p:nvSpPr>
        <p:spPr>
          <a:xfrm>
            <a:off x="3967200" y="5000760"/>
            <a:ext cx="3814560" cy="457200"/>
          </a:xfrm>
          <a:prstGeom prst="rect">
            <a:avLst/>
          </a:prstGeom>
          <a:solidFill>
            <a:srgbClr val="d9e4ff"/>
          </a:solidFill>
          <a:ln w="20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144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1f1f2e"/>
                </a:solidFill>
                <a:latin typeface="Symbol"/>
                <a:ea typeface="Symbol"/>
              </a:rPr>
              <a:t>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b </a:t>
            </a:r>
            <a:r>
              <a:rPr b="0" lang="en-US" sz="1800" spc="-1" strike="noStrike">
                <a:solidFill>
                  <a:srgbClr val="1f1f2e"/>
                </a:solidFill>
                <a:latin typeface="Symbol"/>
                <a:ea typeface="Symbol"/>
              </a:rPr>
              <a:t>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K</a:t>
            </a:r>
            <a:r>
              <a:rPr b="0" lang="en-US" sz="1800" spc="-1" strike="noStrike" baseline="30000">
                <a:solidFill>
                  <a:srgbClr val="1f1f2e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 + (</a:t>
            </a: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-</a:t>
            </a: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1f1f2e"/>
                </a:solidFill>
                <a:latin typeface="Arial"/>
              </a:rPr>
              <a:t>)K + </a:t>
            </a:r>
            <a:r>
              <a:rPr b="0" i="1" lang="en-US" sz="1800" spc="-1" strike="noStrike">
                <a:solidFill>
                  <a:srgbClr val="1f1f2e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1f1f2e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1" name="Straight Arrow Connector 31"/>
          <p:cNvCxnSpPr/>
          <p:nvPr/>
        </p:nvCxnSpPr>
        <p:spPr>
          <a:xfrm flipV="1">
            <a:off x="5865480" y="5444640"/>
            <a:ext cx="1080" cy="527760"/>
          </a:xfrm>
          <a:prstGeom prst="straightConnector1">
            <a:avLst/>
          </a:prstGeom>
          <a:ln w="25560">
            <a:solidFill>
              <a:srgbClr val="1f1f2e"/>
            </a:solidFill>
            <a:miter/>
            <a:headEnd len="med" type="arrow" w="med"/>
          </a:ln>
        </p:spPr>
      </p:cxnSp>
      <p:sp>
        <p:nvSpPr>
          <p:cNvPr id="222" name="Freeform 36"/>
          <p:cNvSpPr/>
          <p:nvPr/>
        </p:nvSpPr>
        <p:spPr>
          <a:xfrm flipH="1">
            <a:off x="1331280" y="2276640"/>
            <a:ext cx="4492440" cy="957240"/>
          </a:xfrm>
          <a:custGeom>
            <a:avLst/>
            <a:gdLst/>
            <a:ahLst/>
            <a:rect l="l" t="t" r="r" b="b"/>
            <a:pathLst>
              <a:path w="10336" h="14459">
                <a:moveTo>
                  <a:pt x="0" y="0"/>
                </a:moveTo>
                <a:cubicBezTo>
                  <a:pt x="1057" y="7985"/>
                  <a:pt x="10221" y="7193"/>
                  <a:pt x="10336" y="14459"/>
                </a:cubicBezTo>
              </a:path>
            </a:pathLst>
          </a:custGeom>
          <a:noFill/>
          <a:ln w="25560">
            <a:solidFill>
              <a:srgbClr val="1f1f2e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Freeform 42"/>
          <p:cNvSpPr/>
          <p:nvPr/>
        </p:nvSpPr>
        <p:spPr>
          <a:xfrm flipH="1" flipV="1">
            <a:off x="1363680" y="3658320"/>
            <a:ext cx="4370400" cy="847800"/>
          </a:xfrm>
          <a:custGeom>
            <a:avLst/>
            <a:gdLst/>
            <a:ahLst/>
            <a:rect l="l" t="t" r="r" b="b"/>
            <a:pathLst>
              <a:path w="22133" h="12791">
                <a:moveTo>
                  <a:pt x="0" y="58"/>
                </a:moveTo>
                <a:cubicBezTo>
                  <a:pt x="5010" y="-686"/>
                  <a:pt x="21940" y="5766"/>
                  <a:pt x="22133" y="12791"/>
                </a:cubicBezTo>
              </a:path>
            </a:pathLst>
          </a:custGeom>
          <a:noFill/>
          <a:ln w="25560">
            <a:solidFill>
              <a:srgbClr val="1f1f2e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4" name="Straight Arrow Connector 19"/>
          <p:cNvCxnSpPr>
            <a:endCxn id="225" idx="4"/>
          </p:cNvCxnSpPr>
          <p:nvPr/>
        </p:nvCxnSpPr>
        <p:spPr>
          <a:xfrm flipV="1">
            <a:off x="5833800" y="4613040"/>
            <a:ext cx="1080" cy="388080"/>
          </a:xfrm>
          <a:prstGeom prst="straightConnector1">
            <a:avLst/>
          </a:prstGeom>
          <a:ln w="25560">
            <a:solidFill>
              <a:srgbClr val="1f1f2e"/>
            </a:solidFill>
            <a:miter/>
            <a:headEnd len="med" type="arrow" w="med"/>
          </a:ln>
        </p:spPr>
      </p:cxnSp>
      <p:sp>
        <p:nvSpPr>
          <p:cNvPr id="225" name="Oval 17"/>
          <p:cNvSpPr/>
          <p:nvPr/>
        </p:nvSpPr>
        <p:spPr>
          <a:xfrm>
            <a:off x="5734080" y="4410000"/>
            <a:ext cx="201600" cy="203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226" name="Straight Arrow Connector 21"/>
          <p:cNvCxnSpPr>
            <a:stCxn id="225" idx="0"/>
          </p:cNvCxnSpPr>
          <p:nvPr/>
        </p:nvCxnSpPr>
        <p:spPr>
          <a:xfrm flipV="1">
            <a:off x="5834160" y="3765240"/>
            <a:ext cx="10080" cy="645120"/>
          </a:xfrm>
          <a:prstGeom prst="straightConnector1">
            <a:avLst/>
          </a:prstGeom>
          <a:ln w="25560">
            <a:solidFill>
              <a:srgbClr val="1f1f2e"/>
            </a:solidFill>
            <a:miter/>
            <a:headEnd len="med" type="arrow" w="med"/>
          </a:ln>
        </p:spPr>
      </p:cxnSp>
      <p:cxnSp>
        <p:nvCxnSpPr>
          <p:cNvPr id="227" name="Straight Arrow Connector 22"/>
          <p:cNvCxnSpPr/>
          <p:nvPr/>
        </p:nvCxnSpPr>
        <p:spPr>
          <a:xfrm flipV="1">
            <a:off x="5833800" y="1883880"/>
            <a:ext cx="1080" cy="1424880"/>
          </a:xfrm>
          <a:prstGeom prst="straightConnector1">
            <a:avLst/>
          </a:prstGeom>
          <a:ln w="25560">
            <a:solidFill>
              <a:srgbClr val="1f1f2e"/>
            </a:solidFill>
            <a:miter/>
            <a:headEnd len="med" type="arrow" w="med"/>
          </a:ln>
        </p:spPr>
      </p:cxnSp>
      <p:sp>
        <p:nvSpPr>
          <p:cNvPr id="228" name="Freeform 24"/>
          <p:cNvSpPr/>
          <p:nvPr/>
        </p:nvSpPr>
        <p:spPr>
          <a:xfrm flipH="1">
            <a:off x="3340080" y="2665440"/>
            <a:ext cx="2494080" cy="563400"/>
          </a:xfrm>
          <a:custGeom>
            <a:avLst/>
            <a:gdLst/>
            <a:ahLst/>
            <a:rect l="l" t="t" r="r" b="b"/>
            <a:pathLst>
              <a:path w="10336" h="14459">
                <a:moveTo>
                  <a:pt x="0" y="0"/>
                </a:moveTo>
                <a:cubicBezTo>
                  <a:pt x="1057" y="7985"/>
                  <a:pt x="10221" y="7193"/>
                  <a:pt x="10336" y="14459"/>
                </a:cubicBezTo>
              </a:path>
            </a:pathLst>
          </a:custGeom>
          <a:noFill/>
          <a:ln w="25560">
            <a:solidFill>
              <a:srgbClr val="1f1f2e"/>
            </a:solidFill>
            <a:round/>
            <a:headEnd len="med" type="oval" w="med"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Freeform 26"/>
          <p:cNvSpPr/>
          <p:nvPr/>
        </p:nvSpPr>
        <p:spPr>
          <a:xfrm flipH="1" flipV="1">
            <a:off x="3339360" y="3686040"/>
            <a:ext cx="2427480" cy="758880"/>
          </a:xfrm>
          <a:custGeom>
            <a:avLst/>
            <a:gdLst/>
            <a:ahLst/>
            <a:rect l="l" t="t" r="r" b="b"/>
            <a:pathLst>
              <a:path w="21624" h="13405">
                <a:moveTo>
                  <a:pt x="0" y="0"/>
                </a:moveTo>
                <a:cubicBezTo>
                  <a:pt x="3653" y="3792"/>
                  <a:pt x="21431" y="6380"/>
                  <a:pt x="21624" y="13405"/>
                </a:cubicBezTo>
              </a:path>
            </a:pathLst>
          </a:custGeom>
          <a:noFill/>
          <a:ln w="25560">
            <a:solidFill>
              <a:srgbClr val="1f1f2e"/>
            </a:solidFill>
            <a:round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D2E9F-1272-4059-A054-23AE9240459D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EA465C-261B-4285-8887-0D420A74DA61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79280" y="907920"/>
            <a:ext cx="8643960" cy="51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Язык программирования должен предоставлять разработчику удобное средство отображения параллелизма данных в задаче на параллельную архитектур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Языком, располагающим удобными и разнообразными средствами работы с массивами, является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Fortr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В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/C++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нет удобных средств работы с массивами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/C++ -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доминирующий язык разработки приложен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Массивы – основная структура данных в вычислительных приложениях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828720"/>
                <a:tab algn="l" pos="1657440"/>
                <a:tab algn="l" pos="2486160"/>
                <a:tab algn="l" pos="3314880"/>
                <a:tab algn="l" pos="4143240"/>
                <a:tab algn="l" pos="4971960"/>
                <a:tab algn="l" pos="5800680"/>
                <a:tab algn="l" pos="6629400"/>
                <a:tab algn="l" pos="7458120"/>
                <a:tab algn="l" pos="8286840"/>
                <a:tab algn="l" pos="9115560"/>
                <a:tab algn="l" pos="9944280"/>
                <a:tab algn="l" pos="10772640"/>
              </a:tabLst>
            </a:pP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Расширенная индексная нотация – главное отличие 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</a:t>
            </a:r>
            <a:r>
              <a:rPr b="1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от 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Cilk</a:t>
            </a:r>
            <a:r>
              <a:rPr b="1" lang="en-US" sz="2400" spc="-1" strike="noStrike" baseline="30000">
                <a:solidFill>
                  <a:srgbClr val="1f1f2e"/>
                </a:solidFill>
                <a:latin typeface="Times New Roman"/>
                <a:ea typeface="Times New Roman"/>
              </a:rPr>
              <a:t>TM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Plus</a:t>
            </a:r>
            <a:r>
              <a:rPr b="0" lang="ru-RU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1f1f2e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D1E78-7B6E-4A5D-8B46-3F5F0084D2C8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179280" y="476280"/>
            <a:ext cx="8893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Определение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2800" indent="144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45"/>
                </a:solidFill>
                <a:latin typeface="Courier New"/>
                <a:ea typeface="Courier New"/>
              </a:rPr>
              <a:t>&lt;</a:t>
            </a:r>
            <a:r>
              <a:rPr b="0" lang="ru-RU" sz="2400" spc="-1" strike="noStrike">
                <a:solidFill>
                  <a:srgbClr val="2e2e45"/>
                </a:solidFill>
                <a:latin typeface="Courier New"/>
                <a:ea typeface="Courier New"/>
              </a:rPr>
              <a:t>имя массива или указатель на него</a:t>
            </a:r>
            <a:r>
              <a:rPr b="0" lang="en-US" sz="2400" spc="-1" strike="noStrike">
                <a:solidFill>
                  <a:srgbClr val="2e2e45"/>
                </a:solidFill>
                <a:latin typeface="Courier New"/>
                <a:ea typeface="Courier New"/>
              </a:rPr>
              <a:t>&gt;[&lt;</a:t>
            </a:r>
            <a:r>
              <a:rPr b="0" lang="ru-RU" sz="2400" spc="-1" strike="noStrike">
                <a:solidFill>
                  <a:srgbClr val="2e2e45"/>
                </a:solidFill>
                <a:latin typeface="Courier New"/>
                <a:ea typeface="Courier New"/>
              </a:rPr>
              <a:t>нижняя граница значений индекса</a:t>
            </a:r>
            <a:r>
              <a:rPr b="0" lang="en-US" sz="2400" spc="-1" strike="noStrike">
                <a:solidFill>
                  <a:srgbClr val="2e2e45"/>
                </a:solidFill>
                <a:latin typeface="Courier New"/>
                <a:ea typeface="Courier New"/>
              </a:rPr>
              <a:t>&gt;:&lt;</a:t>
            </a:r>
            <a:r>
              <a:rPr b="0" lang="ru-RU" sz="2400" spc="-1" strike="noStrike">
                <a:solidFill>
                  <a:srgbClr val="2e2e45"/>
                </a:solidFill>
                <a:latin typeface="Courier New"/>
                <a:ea typeface="Courier New"/>
              </a:rPr>
              <a:t>длина</a:t>
            </a:r>
            <a:r>
              <a:rPr b="0" lang="en-US" sz="2400" spc="-1" strike="noStrike">
                <a:solidFill>
                  <a:srgbClr val="2e2e45"/>
                </a:solidFill>
                <a:latin typeface="Courier New"/>
                <a:ea typeface="Courier New"/>
              </a:rPr>
              <a:t>&gt;[: &lt;</a:t>
            </a:r>
            <a:r>
              <a:rPr b="0" lang="ru-RU" sz="2400" spc="-1" strike="noStrike">
                <a:solidFill>
                  <a:srgbClr val="2e2e45"/>
                </a:solidFill>
                <a:latin typeface="Courier New"/>
                <a:ea typeface="Courier New"/>
              </a:rPr>
              <a:t>шаг изменения индекса</a:t>
            </a:r>
            <a:r>
              <a:rPr b="0" lang="en-US" sz="2400" spc="-1" strike="noStrike">
                <a:solidFill>
                  <a:srgbClr val="2e2e45"/>
                </a:solidFill>
                <a:latin typeface="Courier New"/>
                <a:ea typeface="Courier New"/>
              </a:rPr>
              <a:t>&gt;]]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Символ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: 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является указанием на множество элементов массива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(</a:t>
            </a:r>
            <a:r>
              <a:rPr b="0" i="1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секцию 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или</a:t>
            </a:r>
            <a:r>
              <a:rPr b="0" i="1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сечение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массива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)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Символ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«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: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», используемый без указания длины и шага, является указанием на множество всех элементов массив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Синтаксис расширенной индексной нотации 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отличается от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синтаксиса сечений в 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Fortran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2800" indent="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42800" indent="14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Рисунок 4" descr="i.jpg"/>
          <p:cNvPicPr/>
          <p:nvPr/>
        </p:nvPicPr>
        <p:blipFill>
          <a:blip r:embed="rId1"/>
          <a:stretch/>
        </p:blipFill>
        <p:spPr>
          <a:xfrm>
            <a:off x="468360" y="5229360"/>
            <a:ext cx="1357200" cy="106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68E9-CB76-4D7F-84B1-0396530B77DF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Content Placeholder 2"/>
          <p:cNvSpPr/>
          <p:nvPr/>
        </p:nvSpPr>
        <p:spPr>
          <a:xfrm>
            <a:off x="179280" y="476280"/>
            <a:ext cx="8893440" cy="638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Использование расширенной индексной нотации является сигналом компилятору выполнить векторизацию к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Компилятор векторизует код с расширенной векторной нотацией, отображая его на целевую архитектур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Пример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A[:] 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Все элементы вектора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B[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3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: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5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]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Элементы с 3 по 5 массива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B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C[:][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7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]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Столбец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7 матрицы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D[0:3:2]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Элементы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0,2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и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4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массива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E[0: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5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][0:4] 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// 2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0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элементов с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E[0][0]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по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E[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5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][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4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8E0E-56B8-4BA7-9BDE-23C8686BBF62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Content Placeholder 2"/>
          <p:cNvSpPr/>
          <p:nvPr/>
        </p:nvSpPr>
        <p:spPr>
          <a:xfrm>
            <a:off x="250920" y="549360"/>
            <a:ext cx="8610480" cy="59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Большинство «стандартных» арифметических и логических операций 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C/C++</a:t>
            </a: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могут применяться к секциям массивов: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+, -, *, /, %, &lt;,==,!=,&gt;,|,&amp;,^,&amp;&amp;,||,!,-(unary), +(unary),++,--, +=, -=, *=, /=, *(p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Операторы применяются ко всем элементам секции массив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a[:] * b[:]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   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поэлементное умнож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a[3:2][3:2] + b[5:2][5:2]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сложение матриц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2x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Операции могут выполняться с разными элементами параллельно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737E-74DA-4CAD-94D4-86AFCC1E17F7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Content Placeholder 2"/>
          <p:cNvSpPr/>
          <p:nvPr/>
        </p:nvSpPr>
        <p:spPr>
          <a:xfrm>
            <a:off x="250920" y="260280"/>
            <a:ext cx="8610480" cy="645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Секции, используемые в качестве операндов, должны быть конформными (иметь одинаковые ранг и экстент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a[0:4][1:2] + b[1:2]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	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так не должно быть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Скалярный операнд автоматически расширяется до секции необходимой фор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a[:][:] + b[0][1]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сложение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b[0][1]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со всеми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элементами матрицы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a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Номер слайда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34D6A-4DD6-439A-91F4-7669ACD1FE9E}" type="slidenum">
              <a:rPr b="0" lang="en-US" sz="1400" spc="-1" strike="noStrike">
                <a:solidFill>
                  <a:srgbClr val="595841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Content Placeholder 2"/>
          <p:cNvSpPr/>
          <p:nvPr/>
        </p:nvSpPr>
        <p:spPr>
          <a:xfrm>
            <a:off x="250920" y="333360"/>
            <a:ext cx="8610480" cy="61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Оператор присваивания выполняется параллельно для всех элементов секции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a[0:n] = b[0:n] +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Ранги правой и левой частей должны совпадать. Допустимо использование скалярных величи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a[:] = c;         // </a:t>
            </a:r>
            <a:r>
              <a:rPr b="0" i="1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c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заполняет массив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</a:t>
            </a:r>
            <a:r>
              <a:rPr b="0" i="1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   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e[:] = b[:][:];   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ошибка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Допустимо пересечение правой и левой частей в операторе присваивания (в этом случае используются временные массивы):</a:t>
            </a:r>
            <a:r>
              <a:rPr b="0" lang="en-US" sz="2400" spc="-1" strike="noStrike">
                <a:solidFill>
                  <a:srgbClr val="2e2e45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a[1:s] = a[0:s] + 1; // </a:t>
            </a:r>
            <a:r>
              <a:rPr b="0" lang="ru-RU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используется старое значение</a:t>
            </a:r>
            <a:r>
              <a:rPr b="0" lang="en-US" sz="2000" spc="-1" strike="noStrike">
                <a:solidFill>
                  <a:srgbClr val="2e2e45"/>
                </a:solidFill>
                <a:latin typeface="Courier New"/>
                <a:ea typeface="Courier New"/>
              </a:rPr>
              <a:t> a[1:s-1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2T17:24:44Z</dcterms:created>
  <dc:creator/>
  <dc:description/>
  <dc:language>en-US</dc:language>
  <cp:lastModifiedBy/>
  <dcterms:modified xsi:type="dcterms:W3CDTF">2012-06-05T21:00:53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45801033</vt:lpwstr>
  </property>
</Properties>
</file>