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D66-3759-4459-93EC-56A9E28D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EE8-2875-4614-B31D-AD285AAB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735-8401-49F4-AB8E-86D268EB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ED0-9FBC-4CAB-955C-87C2EAE9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3BD9-44F5-4812-BF4D-C3A84F4E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4506-F74B-4F31-BED9-08531EE5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2FDB-336E-4530-A061-B74AA2E8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1C41-9FBF-4EC4-ADE8-D5D1DE3F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35AD-4E73-4DD1-BE05-F08C5B6F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7748-8D2E-4545-8005-61955223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7898-AECA-483F-AF3D-4837196E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2FA-D550-472E-8618-9C237370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0B82-2BD9-4FE4-AD5D-95B6B5C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AB4B-91EC-4DBB-9C1F-74B77B6D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CFD5-4F1F-49F3-97A2-9AA702E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688D-A6E8-40B5-A525-029CD29F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D643-6DCB-4322-A1D3-D947C166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6AB2-EEC8-46CA-A3B8-C455F6EF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AC7F-724F-45B7-8E01-D010BB33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95F9-9E12-436B-9D1C-A354C88E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5C70-D571-4F09-8AC2-ECE4FF98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4156-AECE-4A0B-828B-FBDEB5EA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5B6-C7E5-4626-AE17-D67E30AE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F003-F260-45D8-9658-4CF2771A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A498-9233-4944-B5C7-30B3E7AB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B629-D810-4643-B606-71CC88AB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CE74-A556-4F62-9018-0DDC5C7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1B91-6F4F-4109-ACC3-982A61CE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8217-F3F3-49D9-97DA-8B8B8F9D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85C9-C8BF-43EF-BD55-E624BA0F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D102-5B4D-4876-8017-8309E630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0431-122E-47F0-9031-28F4D072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5F022-4ABF-436B-9F15-091C6AB3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EF7-C79E-4716-9C9B-5FA47BAB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054B9-2A45-4BC4-BE5E-CE7397AB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C918D-436E-43EB-B01C-A2D4F73D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F480-C4F3-4D7D-BCFB-6F77F3C9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F647-E1EE-4EF1-9B51-A0B5769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A0368-125C-4A7E-83E4-A7187EF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BCA4-8903-4E80-B0B7-6DE1267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D4B7-2325-4726-B5E2-026E60E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7204-B4B6-4C4A-9299-A7AE7D72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4D6E-5BC9-4374-BD03-2C2E11D3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2035-AD3C-4CD3-A53B-5C6CED2E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D40-F52F-48A6-A992-38555EFE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6974C-E22F-414A-A5EA-7B120EDE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FA3BC-3793-4BBA-8693-E56A1A0C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F23F-0EAB-42DE-8C2B-BF60C17A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6F86-DA62-4DF6-9D61-4F32E4A9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F43F0-B06A-4E2F-A131-A2B25013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C596-2031-4A6F-A51F-2F4D95F4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718BE-4576-4077-B614-66076FC1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25C1-DD36-44D8-8FE2-1E0DACA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30495-4F5E-4374-A50B-B7210113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4B996-A137-4C81-98CA-37A4A329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1EE-3130-4F6B-B4BD-1849AFE2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218B5-A1CA-4563-AC6B-8C34D3B4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31860-E67E-4800-8DAE-480A5459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A1A4-ABE1-4F86-8938-D0D86172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A930-B88B-4097-B341-961A657C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58806-C354-4B39-A217-5D9629E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E1FC-5ADC-49AE-B2EA-01AA29B8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DEDB1-1C87-4AC0-B0E7-A4B47A70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DAED2-C6B6-4D87-9308-39BF8D8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6B9C2-7CC4-41B0-9B7A-A5FF4BDB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6CCC2-93E6-4733-BFC7-B8168A51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760-01B6-425C-844D-AF2EA864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95A46-F5CB-4BCD-912A-9986F664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76721-FDE8-49DA-9543-D57312CB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86EBA-5214-43C4-8AE0-FF995B3A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DE4-6D33-410B-B886-B5E9C71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BF6-8016-4A98-94A0-F1AA3BE8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7E2B-C153-4C65-A224-60335CB7037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AAE8-59CE-4A76-A436-CD187B6E88C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0C16-71FC-407F-9D16-A3DCE599B46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731E-FB5C-4948-8102-F2733134235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94EA-76CF-4DC3-8904-3CB39DF6B6D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EC5A-10FD-4123-8788-B00C1DA7F59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07880" y="2114640"/>
            <a:ext cx="873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714240" y="1357200"/>
            <a:ext cx="7072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ческая эффектив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концепции интеллектуальное здание позволя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тить расходы на ремонт и замену обору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лить срок его службы обору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зить на ежемесячные коммунальные плате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сократить расходы на службу эксплуат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брать расходы на надстройку систем интеллектуального зда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уменьшить заболеваемость сотрудников за счет создания комфортных условий для их раб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атривая отдельные системы жизнеобеспечения, входящие в систему по автоматизации здания, можно сказать, что она дает следующие преимуще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управления климатом приводит к экономии энергоресурсов на 10-15%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управления освещением, электроснабжением и отоплением позволяет снизить затраты на 5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м образом, экономия энергоресурсов интеллектуального здания может достигать 15-22%, при этом существенно повышается качество работы сервисных служб, что существенно повышает конкурентные преимущества объекта. На площади 40 000 кв.м. экономия составила примерно 8 850 000 руб./год. Общая экономия – около 11 900 000 руб./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дрение систем автоматизации зданий, входящих в комплекс интеллектуального здания, полностью окупается за 3-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4" descr=""/>
          <p:cNvPicPr/>
          <p:nvPr/>
        </p:nvPicPr>
        <p:blipFill>
          <a:blip r:embed="rId1"/>
          <a:stretch/>
        </p:blipFill>
        <p:spPr>
          <a:xfrm>
            <a:off x="853920" y="2206800"/>
            <a:ext cx="6832800" cy="23158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6480360" cy="2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стелемова М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9:27Z</dcterms:created>
  <dc:creator>Mary</dc:creator>
  <dc:description/>
  <dc:language>en-US</dc:language>
  <cp:lastModifiedBy>User</cp:lastModifiedBy>
  <dcterms:modified xsi:type="dcterms:W3CDTF">2010-11-06T18:54:56Z</dcterms:modified>
  <cp:revision>19</cp:revision>
  <dc:subject/>
  <dc:title>УМНЫЙ ГОРОД</dc:title>
</cp:coreProperties>
</file>