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07C-AA61-463E-AADF-E02B32D8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D00-32AB-4866-BCF2-CA700F3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11C-C29D-46AF-87DA-6BF96EDD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942-ADC8-40D2-B85E-E93004FD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3120-D441-485F-BA3F-34AF9CE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E65-B140-4767-8377-4D58907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406E-18D5-4F0D-8497-3912508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CF2C-2203-474A-9FAC-8F70906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356-3BBD-42BC-BD26-AD78D10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619-2826-4700-8CDC-9A1DA0E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15B-7937-45C3-A101-9EF69D5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C19-DCB2-4342-8806-FE93A04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9AEC-4698-4E09-94C1-93A37FE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D4B9-942D-4260-909A-9CE96A0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63E0-AC83-4067-B48B-401BD93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1493-3CF5-4DA6-9100-465C7930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8136-79C7-46AE-AC14-3BB74E01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2F78-D559-4890-930D-277853BA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F7FD-5ACD-40DB-A7C3-B93DD15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CB9C-45A2-4132-97BB-5204181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9764-3710-4EEA-BF87-0C26288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4296-CCC4-4711-B556-09EABAB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23A-275D-401A-873D-17D7126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C815-35FF-4858-976C-E7934FE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13E7-422B-43EA-B298-B3FABD7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55DD-CA86-4011-A031-2FBDD8C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1344-FBD0-4AB1-8351-5E92532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A063-9E9F-4C60-92F0-526EADB2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1749-BCD7-4677-A1F0-7B51BA79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17E3-5F0B-441B-B504-A64FADC5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1C53-3168-4429-9460-9ABB2398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0209-5252-445E-A3DA-6B1E3A8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BE2E-29CC-4CDD-AABB-F8E9246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4C9-6ECE-4C3F-A545-75915547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7308-BA94-438A-BBDA-4A232DE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917B-CFC1-4B61-9534-F11AB89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2DAF-DFCB-4442-9BBC-0115B27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D707-D2E3-4292-B926-0141D923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77B2-977A-441B-A689-79A691E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D8DA-2856-48B6-BC4C-1A4FA24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43C7-1EA6-4DEA-82FF-FE9ACA5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314B-13E2-4CA4-94B7-39364786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B97F-B653-4ADD-BDFD-EAB6D673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34B6-6AF9-4B40-A3D1-0C0DCCB3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02A-F430-4949-B006-3B2536F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B170A-35E8-4B0D-A697-21FEC09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8D6E8-3B78-4090-ABB9-EFA1FA77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30B4-DD68-4C04-9CA0-E72EC7D8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FBB5-BA20-4EC0-88ED-083E33C3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0164-ECDC-4753-A17C-017C9D6C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C54C-CD65-4BA5-ACF9-E746A7E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A082-5371-4116-AC82-4C45EEE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5BCC-2B11-4B86-BBE4-3BC433BA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A176-6085-4914-AD53-A5F6475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D281-16B4-4850-B795-7997C1C3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827-5D99-4F80-937C-0A1AEDF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DF3D-95DA-45D3-B7A7-91382E40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BF38-1C24-42E5-8911-0090E91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5265-CD0E-4A27-BDFA-A700CD4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D0AE-2D99-40BE-ABAC-ED7D140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2803-96B6-49E3-8CBF-BC2FDA35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AB8E-9577-4E80-BCC9-43ED0C7D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6E7D-2C5E-437D-BAF4-EDADABA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393D-A2DF-43A0-98B5-C8ABD2D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0C40-D935-43D3-9F43-8D9017C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9034D-25BC-4FA7-B61C-A755A4B2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F34-0434-44AA-B1B1-7DE9FE8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A744-042B-4C4D-91BC-07E31333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36E9-A1C0-4C91-9B10-76B797E5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7E5F-FA75-4C9C-BC07-03D1D45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D564-F52D-4B17-AA85-420037E7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48F5-E439-4C2F-B6BD-6E03B482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21CD-5B54-4B50-9746-3EF3DA3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48CF-7B99-4865-973C-EAA05E8A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7AEB-C552-4E6A-8099-FD23532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2DB7-B6DA-487F-AB70-1E89D7CB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633C-3AB7-48C4-B389-DB796E1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5F8-1B4C-4878-9B41-F6E3DC85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7558-3F65-439E-8DF1-24D11B3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C4A1-D3CE-450A-B0E7-3203724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EF73-4C3F-4F6A-A0C8-CACA2C3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F21A1-3F8C-4DEF-82AE-1C6593AB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538F-B8CA-480B-938B-225E1CC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B22-12EB-466F-8675-608BC9C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5C32-49EF-4D6A-A438-B6AEA0D58B8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1FE-9A1F-4A5C-AD71-6304744108C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A03-459B-4340-89D3-64ECFE3BA5D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D65-0D17-4D32-A59C-AAF232E85EF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2A7E-C016-4CC1-8452-5569826377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D9A2-A59C-43E1-AA98-87F95126569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155A-B4FF-4A56-94F1-DD8F8DE0381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91;-&#1044;&#1072;&#1073;&#1080;_%28&#1101;&#1084;&#1080;&#1088;&#1072;&#1090;%29" TargetMode="External"/><Relationship Id="rId2" Type="http://schemas.openxmlformats.org/officeDocument/2006/relationships/hyperlink" Target="http://ru.wikipedia.org/wiki/&#1054;&#1073;&#1098;&#1077;&#1076;&#1080;&#1085;&#1105;&#1085;&#1085;&#1099;&#1077;_&#1040;&#1088;&#1072;&#1073;&#1089;&#1082;&#1080;&#1077;_&#1069;&#1084;&#1080;&#1088;&#1072;&#1090;&#1099;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695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Умный Белг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город стал первым городом России, который присоединился к Международному консорциуму «умных городов» и успешно реализует энергосберегающий проект. Это современные технологии, позволяющие рационально использовать источники энергии и минимизировать воздействие на окружающую среду. «Умная сеть» — система, способная принимать энергию и преобразовывать ее в конечный продукт при минимальном участии люд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160880" y="2357280"/>
            <a:ext cx="42116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214960" y="1500120"/>
            <a:ext cx="3000240" cy="4179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571320" y="1571400"/>
            <a:ext cx="41432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тановка приборов учета Нейро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усилит учет потребления электроэнергии потребителями в многоквартирных и частных дом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714720" y="4286160"/>
            <a:ext cx="14292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419040" indent="-382680">
              <a:lnSpc>
                <a:spcPct val="80000"/>
              </a:lnSpc>
              <a:spcBef>
                <a:spcPts val="1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5214960" y="1785960"/>
            <a:ext cx="3071880" cy="4064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42960" y="1500120"/>
            <a:ext cx="34005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ированная система управления уличным освещением «Гелио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далеко от международного аэропорта Сеула в настоящее время ведется строительство нового города Нью-Сонгдо, настоящего «умного города», который не имеет  аналогов. На месте строительства еще недавно было дно Желтого мор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да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проект будущего города, расположенного в эмирате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Абу-Даб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Объединённых Арабских Эмират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олагает возведение первого в мире города, обеспечиваемого солнечной энергией, другими возобновляемыми источниками энергии и имеющего устойчивую экологическую среду с минимальными выбросами углекислого газа в атмосферу, а также системой полной переработки отходов городск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4267080" y="2214720"/>
            <a:ext cx="42069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0:56Z</dcterms:modified>
  <cp:revision>19</cp:revision>
  <dc:subject/>
  <dc:title>УМНЫЙ ГОРОД</dc:title>
</cp:coreProperties>
</file>