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F583-D4FB-4314-A673-01757AA0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0097-D7FB-4CED-9A10-5EBCECE9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CC24-6C7D-4749-B167-DC9C21E0E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0DEE-AA7A-4F59-81EE-CACEFA70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FF4C-16C8-4EE0-B4D2-AF54FCCC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E49A-7944-4BA2-85BB-96207321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5D85-CBC5-4B45-92D4-3A7573C2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44F0-7038-4F36-BDB8-D51040B3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32F7-58FB-40EA-A71B-E42FE457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5D5F-87F4-4280-BC49-A9F7F0A9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0563-3F40-4128-BE5A-7E44A03A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C2BE-A91D-4780-A6FA-7C9A77C7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069A-69B4-413A-96DE-42D88BDE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6233-91F0-40AC-A7D1-3093E2C5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320C-3170-4CC8-93C2-EF978964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A7C5-BCFB-432D-98D1-BBD4F53D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F681-3DD0-4D28-86AB-3DCF630A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64F06-D9C7-46A9-9AFD-E789CE42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9DA3A-9761-4BD3-91F4-6A92E7E4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1BED4-8BE3-4CED-9C34-6323F3A2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8F8BA-B704-4490-BE56-E97B4741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C8177-DCBF-4AFA-BABC-A3CF4704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0D98-C012-41C9-A8B6-EB95B37D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ACC13-1618-4FC0-8BB3-D1025187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BBF1D-2867-4DB1-9F63-2B87D8FA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D44E2-A2F8-4137-92C4-9E7B0179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11AD4-A20A-4F8E-8465-41657933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E1FF6-DD9C-40BD-8510-2A44EECB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EA9E9-E83B-4328-9371-3F8CED79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F925D-7FBC-4ADE-8659-CB44C571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A0385-4B9D-41FF-B968-9CE6AFF6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19A1F-4A9A-40A5-B28B-C8AD1BF4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A6EFF-ACE8-47F6-9153-3006A93B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958D-7F05-4CAB-A55B-C4AA3D63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533F7-EEA7-4210-8C0E-3C3EC033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323B1-10BB-4269-BE30-D235329F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76489-CB84-4BC0-BD95-FABCCE7D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735BB-CF09-473D-83E3-0D81660B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5218A-8CF5-4D34-88BB-690EBF97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7804D-99C8-4693-87A5-06431A51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7898E-956F-4AAE-940E-142F55C4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44358-1E8D-4802-9D9D-748EC865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58B8E-4674-433E-8FF2-51D84DCD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CF830-CB43-470D-8347-D0B51ACA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DAD8-717C-4838-AD9F-A0C6D9DC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CF9FD-F185-4A21-ABA7-251906ED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7E1F1-FE1D-4FD1-9102-9D59C0A3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0CB9A-7A20-4242-BFA7-9B9C37CC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16EB9-1104-450D-BCD8-4F1C2B24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FDADE-0B72-41AC-BF0A-5D6D3D26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0B9DA-6497-485E-BA85-C68D8D36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4BFDE-A96E-4DB1-B9E8-BC99BC15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CF0AD-9CCA-4CD1-B994-DE76222F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7A09D-43C6-464B-A650-B22B543B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895CB-78F1-44F1-BACB-0ABE219A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FA0F-FDF3-4B7D-9739-A909B8CF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5138E-0341-4FDC-8B04-F1CEE265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C12AE-F55A-4D8E-957E-6B721D9B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95531-578D-48BA-8F80-34269E5B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8B76C-D36A-417F-A895-654E965E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43965-5218-48C6-9684-91A167D6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D5205-8C7B-4C48-88C8-1DE56F5D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A6197-25CA-4842-B672-D1269C55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A70BF-BC4A-48C3-AFD1-195BC08A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F3E46-F377-469B-B888-35027785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BA0A8-7A37-4F1B-AC89-BD332514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2519-C63D-4DD8-BA37-D01DD05D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3839B-B0DC-4F1B-A77B-34F79451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B1D82-5AC1-4654-953D-1C4DCDEA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463D7-0BB4-4041-9ECD-F4CCAA76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23DB-55B6-4917-8279-60D20952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A4AC-7234-4367-A039-D72ACA47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34C5-FA33-4081-9FE9-17954F7985E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92BA-8DE9-4658-B258-743C461F5CD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2164-96D6-4D7B-AFBB-F000AB3AF9F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9C20-BFF0-4F36-8CFB-388A4533424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EFC0-B514-413D-99DC-E761390E309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E402-2C8F-4522-928B-3C17A6B8CBE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407880" y="2114640"/>
            <a:ext cx="873612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2" name="Picture 5" descr="sx3"/>
          <p:cNvPicPr/>
          <p:nvPr/>
        </p:nvPicPr>
        <p:blipFill>
          <a:blip r:embed="rId1"/>
          <a:stretch/>
        </p:blipFill>
        <p:spPr>
          <a:xfrm>
            <a:off x="1071720" y="1500120"/>
            <a:ext cx="6953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9720" y="213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4" name="Picture 4" descr="sx5"/>
          <p:cNvPicPr/>
          <p:nvPr/>
        </p:nvPicPr>
        <p:blipFill>
          <a:blip r:embed="rId1"/>
          <a:stretch/>
        </p:blipFill>
        <p:spPr>
          <a:xfrm>
            <a:off x="1116000" y="1268280"/>
            <a:ext cx="73152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троение «Интеллектуальных Сетей» можно разбить на 3 этапа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 этап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редусматривает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вышение значимости уче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ое внимание уделяется двустороннему взаимодействию с потребителями на основе технологии интеллектуального учет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дрение инструментов анализ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 этап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является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готовкой к внедрению и использованию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теллектуальных технолог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астичная автоматизация с функционалом самовосстановлен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ивное использование аналитик, направленное на оптимизацию потока электрической энерг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 работы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потребителям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ение оперативности обнаружения и устранения неисправности, восстановления работы се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 этап – Интеллектуальные се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овосстановление се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ниторинг на местах и планомерное сокращение нагрузки на аварийную служб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ая сеть аналитических процесс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номасштабный функционал мониторинга и дистанционного управления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4" descr=""/>
          <p:cNvPicPr/>
          <p:nvPr/>
        </p:nvPicPr>
        <p:blipFill>
          <a:blip r:embed="rId1"/>
          <a:stretch/>
        </p:blipFill>
        <p:spPr>
          <a:xfrm>
            <a:off x="853920" y="2206800"/>
            <a:ext cx="6832800" cy="23158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856800" y="5785920"/>
            <a:ext cx="6480360" cy="297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: Устелемова М.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Интеллектуальная сеть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основанная на «умных технологиях», автоматически балансирующая, самоконтролирующаяся энергетическая сеть, способная принимать энергию из любого источника (уголь, солнце, ветер) и преобразовывать ее в конечный продукт для потребителей (тепло, свет, теплую воду) при минимальном участии людей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Умные технологии» включают передовые сенсорные, коммуникационные и управляющие техники для повышения  эффективности распределения и измерения газа и электрич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Долгосрочные цели предусматривают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0% сокращение выбросов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0% экономия энерг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0% возобновляемая энерг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2" name="Picture 5" descr="sx1"/>
          <p:cNvPicPr/>
          <p:nvPr/>
        </p:nvPicPr>
        <p:blipFill>
          <a:blip r:embed="rId1"/>
          <a:stretch/>
        </p:blipFill>
        <p:spPr>
          <a:xfrm>
            <a:off x="900000" y="1268280"/>
            <a:ext cx="73152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99680" y="15717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ный учет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матическое считывание показаний счетчико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ая инфраструктура счетч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даленная идентификация сбо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даленное включение, отключение, повторное включ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даленная настройка счетч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теллектуальная Сет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даленный мониторинг Сет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даленное управление Сеть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Автоматизированное управление Сеть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тимизация потока эл/энергии и потер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Аналитика сбое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рос и предложение / Энергоэффективнос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ь внедрения систем непрерывной загруз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ь внедрения повременных тариф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ь внедрения технологии «Умных Домов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ь реализации программ повышения энергоэффектив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озможность присоединения распределенной генерации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недрение распределенных энергоресурс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правление распределенной генерацией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рганизация мест зарядки электромобилей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Широкое использование электромобиле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арифообразование и законодательная база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3:59:27Z</dcterms:created>
  <dc:creator>Mary</dc:creator>
  <dc:description/>
  <dc:language>en-US</dc:language>
  <cp:lastModifiedBy>User</cp:lastModifiedBy>
  <dcterms:modified xsi:type="dcterms:W3CDTF">2010-11-06T18:49:43Z</dcterms:modified>
  <cp:revision>19</cp:revision>
  <dc:subject/>
  <dc:title>УМНЫЙ ГОРОД</dc:title>
</cp:coreProperties>
</file>