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915-83EC-4308-AD4A-53CA52FF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7E8-F883-4D83-AF27-6D05BFD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B21-F038-48FD-9476-DB63FEA6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A5A-AF93-4F5F-944E-526A571E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1EC-8235-4025-8DD5-C0A45B44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8BF5-EEA8-44D2-9305-AE804A0D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0A6-B596-460A-869D-2D1C7E1A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4D8-A24F-4CCF-8FA4-9209C4C5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BAB5-E9F8-4468-A9E7-7D845F92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526-F87A-4DEF-AC23-2306B09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8E5-E0BA-410F-B445-F637448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7CD-A661-4B25-BF9E-59C231F7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CF7E-513E-4A52-A1F7-DAD80C8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DC46-8566-49D2-AF65-7DF943D3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4942-3998-4213-B79F-7234051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CC8C-9D54-4832-B753-22A22633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4995-FF5A-4E54-95CA-C0FA8D9D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DB617-B5D6-4DF6-926A-C195785F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9B486-CFB0-42F1-8677-6727492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77812-244A-4751-9CA9-7BDCF0B6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5F1C1-C198-4EE7-9B63-9E93936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4EAAE-C08B-4AF1-A0D7-9A814ED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AF5-EC07-4BFC-A8A5-C06F2060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7F8B8-F825-48A5-9E51-584E3D8E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45E8C-C482-4F19-BE50-529F692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05914-54AD-4B11-9B6F-57EFD57C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EE1AA-3AEA-4F6D-940B-175D359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0A72D-F013-4302-9440-EC5AD2DB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FF2AE-B100-45D6-BC1F-96007BF2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F4722-B778-4F4B-8FDE-C98180AF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610B4-283A-4131-8514-7D723D3E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7D8DE-961A-4221-A7DA-926AE26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2EB0A-4E52-4F89-AE3A-E215E588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B7A-099D-437C-B041-9BB38E6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DC602-5B9D-4765-BC46-8DD59A1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7267A-3D44-43BE-A8F1-451C895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B6E1B-A9C8-4398-BEC5-6E4907E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2E09E-70B0-4D29-9352-E5E67BB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A9297-3216-4B70-998E-D1D5BFC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15800-FB40-4905-91AC-E8662DD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194FF-DC24-48F5-8FA2-2C1161B1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A328A-BA23-4C77-A9EB-35B36462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3725C-C00E-4A6D-BE1C-16445991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73010-8891-4BE9-853A-D3CCC3D0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FCB-30AF-4885-A750-2A1E581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13DCF-BEA8-4C13-A7F9-C83B5ED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6E176-CC2F-48D1-9A36-D7F2DA81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404EE-898C-4BCE-9902-2659A284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44522-417A-41A8-AB25-E178C566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B728E-64A0-4232-8487-583E48B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F6DD5-D358-49DC-AE10-9C2B63D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D9123-C8C5-4D01-803C-FEF68EF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53247-03F9-4419-8B7F-C58CE46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D7B4D-9249-42B6-8D5F-B1AE5F5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50BC2-3154-4C88-9378-EF9B9F99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4B4-D6F8-4892-9E0F-44E2DB4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9D462-54BA-4A5E-9F44-201681E2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F74B-0DC1-4AD5-8F9D-6C9A0E5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E887-A147-4B65-8ECF-315D5C08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AE15-9AA8-41CE-A424-26953932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F3B2-A459-41D5-80CB-F912D7F5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E23B-A919-4EF2-8588-1A746130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C58A-4A83-45C5-B9BA-E477F8F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BA26C-310F-4F23-94EC-5D6BF34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D4B0-3DE1-461F-9266-2016A0C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675A-9B02-482C-8AF4-8E15816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ACC-1D4F-4CD3-AD92-0C75E52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6A15-6ED7-4974-AEE3-443504B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96234-B199-4BD6-BA11-A64956B7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7BDD-FAE7-4048-B391-6507270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B32C6-EBCF-40E7-867D-9F5DD362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ABE23-7E33-45DA-85CA-421FF1B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3F10D6-8D17-4BBB-B6B4-23E18F4C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A18E40-DBC6-4E97-99E7-AE659E25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4AEE3-8B6D-4DAA-9F52-309D7D1C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1D71F-F910-4423-BD02-86D260D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37501-6CAF-4F63-B002-5AC6F8F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3B1-E128-4108-BE89-688E151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4E8DD-22C0-4FC3-BF53-8D8C03F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AAA771-69E8-444D-9583-A0E7162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F2BF8-7714-4CB5-A31E-F71A034E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3D91E-7506-487D-B463-223B3824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CD219-48C6-4AB7-B69E-860F4355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0473-D89E-4536-9950-BA787154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76B3E-98C8-420B-A8BD-39685477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B6402-2FEC-4694-96F7-F92F4A9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B589F-F388-4118-B3EB-CFDD24F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5426-F9A5-44D7-9127-9967EF0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C6D-F50B-45B2-B853-0AA25D6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C730-9D23-462E-9A90-9531908C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763D-1657-42AF-BCAF-91EB81C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4D3C1-9B6E-4931-A70F-EF96211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21DD3-007F-4E2C-ACEC-66380F6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20D46-2A18-4E3D-B397-E659025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932DE-BCB2-4BEC-B70C-ECACFAE1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2817-3D13-4DE9-92BB-2F36BFF0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AF3-3DB9-454C-BE20-837335D1D7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F473-050D-4FA0-BD89-73EE72DB615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36C-5EED-47C6-A48B-22473F219FA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BF6C-DC86-4008-95DA-1550DE8ED7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CB5-B19B-424A-9AE6-573A49097F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9DA2-C57C-4256-8B22-181C4A042C3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795B-9735-4613-8455-B4DE73AFAD9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AD4-B249-4AEA-AB22-FBC1D26733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кономия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«Умный дом» позволит вам настроить освещение наиболее удобным для вас способом, поэтому вы не только значительно сэкономите на оплате электричества, но и сделаете свое жилище более комфортным и уютны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ход тепла и размер платежей снижаются в среднем на 30-40% зимой и до 60% в межсезонь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нижение платежей за воду - 41%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В базу да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холодильни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загрузить не только список продуктов, но и рецепты, а также любимые блюда всех членов семьи. Благодаря этому, система сможет сама выдавать вам информацию о том, какие продукты необходимо купить для приготовления того или иного блюда. Кроме этого, вы можете занести в базу напоминания о предстоящих событиях и дел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2176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 Встроенный пылесос позволяет бороться с пылью и вредными микрочастицами безо всяких усилий с вашей стороны, притом, что само устройство настолько мало, что его не видно. Центральный пылесос не только снимет с вас часть домашних дел, но и сделает воздух в доме чистым и свежим. Вы сами заметите это, когда система осуществит уборк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В системе «Умного дома» имеются встроенные средства, направленные против последствий таких ситуаций как утечка газа, возгорание, утечка воды и т.д. Одна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е только примет все необходимое для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безопасности жилищ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и оповести вас, а также необходимые службы (правоохранительные органы, пожарную, службу газового хозяйства) при помощи голосового сообщения. Для этого необходимо внести в систему номера служб, на которые следует звонить при возникновении нестандартной ситуации и соответствующие голосовые сообщ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Даже если вы покинете дом на длительный срок, ваше отсутствие может остаться совершенно незамеченным, если вы оставите включенной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истему имитации присутств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Вы сможете настроить данный режим таким образом, что в разных комнатах квартиры или дома будет время от времени включаться свет, музыка или телевизор. Прожектор направит на окна спроецированные изображения в виде силуэтов человека. А звуки, напоминающие воду, льющуюся из крана, свист чайника и приглушенный голос радио развеет все сомнения злоумышленников в том, что дома кто-то е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6.Ваше жилище должно быть комфортным не только для человека, но и для его четвероногих питомцев, заботе о которых необходимо уделить немаловажное внимание. «Умный дом» создан таким образом, что обитающие в нем животные не могут нанести вреда имеющимся в нем устройствам . А «Умный дом» обеспечивает их всем необходимым для жизни – пищей, водой и следит за порядком в их кормушках и туале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татистика показывает, что система Умный дом позволяет сокращать расходы на энергоресурсы на 8-12%, управление освещением и электроснабжением сокращает потребление энергии на 3-5%. Продуманный алгоритм управления приводят к значительной экономии средств: до 30% от обычных расходов.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Примерный срок окупаемости такого дома составляет 5 ле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6:50Z</dcterms:modified>
  <cp:revision>32</cp:revision>
  <dc:subject/>
  <dc:title>«Умный Дом»</dc:title>
</cp:coreProperties>
</file>