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EBA-9B96-415F-B636-EFD8EF3F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4A5-8D38-470C-80FF-632FC51C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4CB-F131-488C-8088-B46EA912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1DD-B28C-4C9C-9B36-BA564839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BE30-DB9B-4F9C-A6AE-597740B4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CAF6-5ABF-4E0E-9A61-40B90247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D549-5D48-4EF0-847C-DA868EAD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59C4-E917-4E34-B982-4168E8F8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AC01-063D-4BFD-AA33-615FF4EC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5A5D-D414-49D6-B7FB-0EFC71C3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583F-5B79-4288-BEC5-BEB61910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12D-702C-4CA6-AECE-13D6AF97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1C33-93AD-4A62-A00B-D187D802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B6F0-8BC1-4778-9ABC-71C7340C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C45F-3096-449A-836C-7E148AB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1A86-2908-4A0D-945B-2994A118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0822-FD9D-4C85-9766-1A0359A0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28FA5-ACA9-4019-A18F-11F0AA57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CB986-D8B6-40A7-B228-3A84BA3C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A1834-923B-4C61-B88D-C9C30529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CA7D5-1FCB-4AC6-930F-48916132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4353B-370B-4373-B284-41ECADEB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D3C-8ACB-4FE7-86AB-CE57DD5F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1E708-1DDD-4B4F-9A5C-E29E0F4D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C9196-51F1-4636-ACE4-527706E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8AF18-22ED-4936-8A00-49BA25D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B0C18-0863-44FC-BDA7-14CDBC0A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B6455-7544-4A28-9837-D5509F87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45C39-2705-4B8A-B8DD-CB04D7BB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10FCA-827D-4A7E-9B99-44F81615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08DAF-D2D1-4B8F-AE68-42271D29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F1CD4C-49C9-499B-8C55-7747F9C8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66FA1-D3BC-4888-9C4D-F9A2CA9C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751-2D88-49CA-B88F-DE0C08CB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CA67F-9F03-4B1D-85B2-C3736E03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9387A-E2B9-4ABC-B2D4-94AF765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6C273-9E94-472B-8D07-31E1B73F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CB71A-A412-426E-9259-2EA1C6B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AADB9-2B3A-443F-B4D6-95CDEC6A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C25DB-744C-40F6-A4CD-3D35548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457F7-983B-4D59-A52F-5EE3C29F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C6331-4339-4D29-9DEB-DD69E086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443AF-D7C5-4EAC-BCAD-800A0F52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372F5-78C4-447A-93F3-FE3D28AB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1D4-C40F-4E51-926D-DE072489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28D46-BAB2-409A-AFBE-9E158728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D32AE-D5DC-4F07-943F-E9C2F698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C2E0C-5B56-4787-B3D6-FE6CCA6D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A146E-8B18-4689-856A-BFCEB1E7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B3790-8364-4599-B972-AF9A0E24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ADC23-FF23-48F0-B684-03663D55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6A15E-2399-441E-AB35-2B2AEF5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D32EE-C741-4A51-BE2A-A58461B0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BF010-CF85-404A-A952-1126461C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10E3A-08BA-454D-B3AD-41AD60D6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B4F-FA79-4918-A7C0-1DEE8183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7B49C-217A-4F57-B90F-E1081C52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A0DAD-3929-475A-AB58-5FDBBF7B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D07D-E727-46B9-A40C-1AAEAEF5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5B2B9-CB60-44A8-B2FA-CC0D3810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3ACEC-3BB4-4A14-9F7E-E6D6AF2D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22E0E-01E2-40D5-A3DA-E3866F9B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A3ECD-EA03-454A-A88C-B7F02B4F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A0A38-797D-479A-A2EC-F414CA71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7C741-54E2-459B-8E44-D2E487E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9101B-D251-4EA3-95D2-6E03B361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202-07F9-4787-AC6C-A3C5F41B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A89ED-4FC2-4025-9267-18642583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F9326-B02C-4AB9-BE3A-5EC527A7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3117A-7FA0-43CA-8B0E-34A8C724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C5315-1BA0-463B-8A23-6F4FCF8E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1A189-4EB0-4639-A610-BECDCDA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7AD93-177F-4588-A1F4-73DAAAA5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5AFFF-3614-43AB-AA9A-C3A72134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066D7-F790-4974-AEA2-7A210E84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84CDB-6B93-4977-97E4-E49DFADF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BEF20-7A77-4DFC-ABE6-6AA22C4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ABF-D4B2-47AE-91D7-3F242813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AD559-59FC-4D92-85AC-A33B6046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A3FF6-B2D6-41F1-8759-FE076A7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164B4-D532-4C5E-8858-65F16EDC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83F5D-5C75-4F7A-A268-D31CF860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37C57-DE93-4C91-9940-48EB612D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4C0E6-79BE-458C-8173-6C4A6B80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358B0-D2B3-4998-9B68-75EFA33A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196BA-2A73-4899-B816-2458CCFA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B9ECA-3058-4C6C-AE00-6468D4EC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8A061-84BE-4624-BA35-07508981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5EB-02A2-4C41-B1C4-189CC251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99EA3-3546-4B09-AD4F-E4846F74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CF97-C472-42D9-8E53-8F6033C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72664-C690-4A44-9E65-8620D32A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E920C-5F3A-4109-AE5D-0842C267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9A0C3-CA22-4736-865A-DCBC4644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0D874-8172-46B6-8D5D-497BF589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A536B-34AA-4587-9F12-FE8B315C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82D7-A085-45EC-B324-8CCEBCD644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355D-403F-4896-908F-D19B5B71E5EF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6506-ECC3-4B0C-8874-40C595042DC9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5A4-8D49-42E5-A49B-B464A67BCD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7866-1C32-4B38-AC50-052DD775E0E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F1FE-E7FD-4787-9798-6BC356DFDC4C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68A5-D23B-43B2-90D9-4744EB5F2916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B362-02AC-4006-8B9A-9FC52AC350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ideoohrana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videoohrana.r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bddc3"/>
                </a:solidFill>
                <a:latin typeface="Calibri"/>
              </a:rPr>
              <a:t>«УМНЫЙ ДОМ»</a:t>
            </a:r>
            <a:endParaRPr b="0" lang="en-US" sz="9600" spc="-1" strike="noStrike">
              <a:solidFill>
                <a:srgbClr val="ebddc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хранные системы для загородных домов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еоретически </a:t>
            </a:r>
            <a:r>
              <a:rPr b="0" lang="ru-RU" sz="27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систему охранной сигнализаци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адо создавать на самой ранней стадии - при проектировании дома и его инженерных коммуникац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но положениям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ГОСТ Р 50776-95 "Системы тревожной сигнализации. Часть 1. Общие требования. Раздел 4. Руководство по проектированию, монтажу и техническому обслуживанию (МЭК 839-1-4-89)"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создание системы охранной сигнализации на объекте должно вестись поэтап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обенность использования </a:t>
            </a: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систем безопасност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для индивидуальных жилых домов - эксплуатация в бытовых условиях, в присутствии детей, непосвященных лиц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Умный дом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571680" y="3071880"/>
            <a:ext cx="3809880" cy="2819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 наличии постоянной охраны приемно -контрольный прибор обычно устанавливают на посту охран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                        </a:t>
            </a:r>
            <a:r>
              <a:rPr b="0" lang="ru-RU" sz="4400" spc="-1" strike="noStrike">
                <a:solidFill>
                  <a:srgbClr val="ebddc3"/>
                </a:solidFill>
                <a:latin typeface="Calibri"/>
              </a:rPr>
              <a:t>УМНЫЙ ДОМ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Автор презентации:            Устелемова М.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5:27:47Z</dcterms:created>
  <dc:creator>User</dc:creator>
  <dc:description/>
  <dc:language>en-US</dc:language>
  <cp:lastModifiedBy>User</cp:lastModifiedBy>
  <dcterms:modified xsi:type="dcterms:W3CDTF">2010-11-06T18:45:47Z</dcterms:modified>
  <cp:revision>32</cp:revision>
  <dc:subject/>
  <dc:title>«Умный Дом»</dc:title>
</cp:coreProperties>
</file>