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F977-0BD8-4BD0-A99A-CF44892B6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4B5D-FCBD-4D77-B750-02B0E92C5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0318-CE27-41B6-B4EB-19CEB7694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EB11-9F9A-4971-9000-F126E24B9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2463E-EFA1-4B2C-A200-C769E6405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0AE06-1EF4-4205-9F28-7613DD93E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5887D-166A-4D28-9C53-DF4518745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75524-2950-415F-AD46-F36B9F002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661F6-DDA5-4B32-BC33-B152D5689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503CB-FEDA-40A0-93D4-00DF58F1E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030EB-2163-48D0-A875-57ACDD93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153F-AD96-4AF8-A2A4-6FD3F7758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25774-80E6-4DDB-A808-9AFDA9B3D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69AEB-D8D9-4721-A8A8-11B024F9A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7BA28-3DD8-47C7-B79B-74CE40407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B790A-0A5A-4E8B-95C4-295BB4349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B1EA3-0BA4-4D9B-8735-AA3D9A5FD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5DF73-20DF-41D6-9DB2-79DA3BB9C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9DD9D-98E9-4487-8111-747AE3525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769C6-3679-485B-B8F2-CAD54647D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5D720-C16A-4A59-911D-4B048697F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E87CC-6602-45EE-B8AF-3B7312B33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638E-FBA5-421F-ADD3-F00D12B75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6D7B4-2232-420D-8162-148AE961A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75B8E-BFC8-497A-8149-45718F8F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87D54-C91C-4B08-B4E8-119DFA98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4E698-E233-479D-A7FC-F2CB858D2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75E85-1268-46B7-8B26-B53E9DCFA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36318-528E-4E08-AA9E-FDC9A6ECC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0636F-4682-4D4E-9E3D-273B0E445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8137C-6BFC-4E62-94F4-2CAD9FD7D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378D7-2846-43E3-8E5D-769383163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07BD6-DC92-435C-80C2-DD6307EC1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9A00-1F14-44E9-A18F-F5E1B2EFF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2AF58-56B4-48CF-8F62-81B0B60A5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DE5DC-89F2-4CDD-8BF3-F3BFECB15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612D5-4813-41D3-AFC7-55B7CB750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90D01-A180-461F-8B6F-1C27A866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9CD92-C878-4061-B28F-DB886797D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C5886-A995-47DF-83B7-C6C7466DF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B9D29-7CFC-4CAB-8DA3-D9804B02A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FA7D5-5AA2-4A10-9E6D-6E01C1539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D644F-8D85-4BB4-A6BC-9E3A5A1D5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44CA62-6DDA-4E3F-B549-6A073E6A9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BE27-6A10-484D-8EA3-1D3DE2490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95A8AE-9578-4855-BC1F-0FE3ECB18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14BFD-9B71-462E-B9CC-EE8AEAE7D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64071-775F-41F7-9350-7A78FE20A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D35D01-A6C9-4502-80B2-238C66397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EA5C9-6F58-43B2-B851-24B8A1028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149106-32E4-4186-A647-85628265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469D87-1CEF-48E9-B4AA-2C851ACFE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D18EDA-2856-4AF7-93C5-DB1C1E715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2B8E1-7CD9-4431-A4C1-BBC306775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6CE65-D974-4FBE-AD84-AF8ED4B42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6097-95E7-4FAF-963C-9CDDE70D6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CE1A8-BD60-42FF-B182-4AD92D6B6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2F10A-7657-47B1-A335-EFDE34189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A68FF8-B3CD-4EAD-B8F9-1B89E19ED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40480B-1E49-4F68-91A7-1E4A5C7D1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038C67-412A-4099-92E2-F94D4F09E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8CFF54-92DF-4531-A560-E33CE29B6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5814B3-57F5-4921-BC1E-4F6DDF51C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E3BD24-941E-4C5A-8349-4B21591A1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782F6C-8354-4402-8FEA-707A509C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257996-2B50-4C49-91BE-C2C35D647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B1B7-8AB8-4F98-AB7D-A8718ADD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0C8C2A-7DDE-4C34-860F-F91BEAF1C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DB492D-9F9F-442C-800C-EE82C309C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4BBF02-9F10-43B4-8676-6B97FFA77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AF60-E253-4B24-AD93-DF376BD9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9EE8-777A-4876-B1A1-E90EFA44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7C469-579F-4331-9772-0A936364A9ED}" type="datetime">
              <a:rPr b="0" lang="ru-RU" sz="1400" spc="-1" strike="noStrike">
                <a:solidFill>
                  <a:srgbClr val="464653"/>
                </a:solidFill>
                <a:latin typeface="Calibri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67E6A-4BAF-4F9B-AE99-1D4FB1A35484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71AF7-E144-4B71-ADE6-D874676358DB}" type="datetime">
              <a:rPr b="0" lang="ru-RU" sz="1400" spc="-1" strike="noStrike">
                <a:solidFill>
                  <a:srgbClr val="dde9ec"/>
                </a:solidFill>
                <a:latin typeface="Calibri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BAD60-01BC-4217-9226-8178CBCA3C3A}" type="slidenum">
              <a:rPr b="0" lang="ru-RU" sz="1400" spc="-1" strike="noStrike">
                <a:solidFill>
                  <a:srgbClr val="dde9ec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D020F-E2D5-440B-B902-71041F42DC17}" type="datetime">
              <a:rPr b="0" lang="ru-RU" sz="1400" spc="-1" strike="noStrike">
                <a:solidFill>
                  <a:srgbClr val="464653"/>
                </a:solidFill>
                <a:latin typeface="Calibri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0D8E4-3125-4F9D-B0B1-06E1B6FECB92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Равнобедренный треугольник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2303B-24FA-45B6-AC64-825E768CB97C}" type="datetime">
              <a:rPr b="0" lang="ru-RU" sz="1400" spc="-1" strike="noStrike">
                <a:solidFill>
                  <a:srgbClr val="464653"/>
                </a:solidFill>
                <a:latin typeface="Calibri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EE05D-1200-4FFE-8BB3-6514CBBCF4C2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8039E-BAEA-4A49-B848-56B59820A124}" type="datetime">
              <a:rPr b="0" lang="ru-RU" sz="1400" spc="-1" strike="noStrike">
                <a:solidFill>
                  <a:srgbClr val="dde9ec"/>
                </a:solidFill>
                <a:latin typeface="Calibri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9C855-58BF-4B07-906C-9075ADA69E83}" type="slidenum">
              <a:rPr b="0" lang="ru-RU" sz="1400" spc="-1" strike="noStrike">
                <a:solidFill>
                  <a:srgbClr val="dde9ec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ая соединительная линия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6DAB5-B001-40E4-9679-70011D34D4A7}" type="datetime">
              <a:rPr b="0" lang="ru-RU" sz="1400" spc="-1" strike="noStrike">
                <a:solidFill>
                  <a:srgbClr val="464653"/>
                </a:solidFill>
                <a:latin typeface="Calibri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2F278-B2E1-4F52-B314-3DEA6E1E48F4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jade.tilab.com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Номер слайда 2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C1431-DF4E-4D57-A422-2FF702B49971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2"/>
          <p:cNvSpPr/>
          <p:nvPr/>
        </p:nvSpPr>
        <p:spPr>
          <a:xfrm>
            <a:off x="395280" y="1052640"/>
            <a:ext cx="835344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755640" y="404640"/>
            <a:ext cx="78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Verdana"/>
              </a:rPr>
              <a:t>Лаборатория Системного ПРограммирования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Verdana"/>
              </a:rPr>
              <a:t>ИНформационных Технологий СПбГ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1258920" y="1341360"/>
            <a:ext cx="723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7"/>
          <p:cNvSpPr/>
          <p:nvPr/>
        </p:nvSpPr>
        <p:spPr>
          <a:xfrm>
            <a:off x="468360" y="256536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абораторная работ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Знакомство с JADE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42"/>
          <p:cNvSpPr/>
          <p:nvPr/>
        </p:nvSpPr>
        <p:spPr>
          <a:xfrm>
            <a:off x="216000" y="530064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47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48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49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50"/>
          <p:cNvSpPr/>
          <p:nvPr/>
        </p:nvSpPr>
        <p:spPr>
          <a:xfrm>
            <a:off x="468360" y="6381720"/>
            <a:ext cx="727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приложений для мобильных интеллектуальных систем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аб. работ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51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275" name="Picture 52" descr="ЛоготипСПРИНТ"/>
            <p:cNvPicPr/>
            <p:nvPr/>
          </p:nvPicPr>
          <p:blipFill>
            <a:blip r:embed="rId1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Text Box 53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31040" cy="716040"/>
          </a:xfrm>
          <a:prstGeom prst="rect">
            <a:avLst/>
          </a:prstGeom>
          <a:gradFill rotWithShape="0">
            <a:gsLst>
              <a:gs pos="0">
                <a:srgbClr val="83ca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81720" rIns="81720" tIns="42480" bIns="424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464653"/>
                </a:solidFill>
                <a:latin typeface="Cambria"/>
              </a:rPr>
              <a:t>Запуск нового агента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60" name="Rectangle 9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10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1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2"/>
          <p:cNvSpPr/>
          <p:nvPr/>
        </p:nvSpPr>
        <p:spPr>
          <a:xfrm>
            <a:off x="468360" y="6381720"/>
            <a:ext cx="727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приложений для мобильных интеллектуальных систем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аб. работ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Group 13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365" name="Picture 14" descr="ЛоготипСПРИНТ"/>
            <p:cNvPicPr/>
            <p:nvPr/>
          </p:nvPicPr>
          <p:blipFill>
            <a:blip r:embed="rId1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Text Box 15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7" name="Picture 14" descr=""/>
          <p:cNvPicPr/>
          <p:nvPr/>
        </p:nvPicPr>
        <p:blipFill>
          <a:blip r:embed="rId2"/>
          <a:stretch/>
        </p:blipFill>
        <p:spPr>
          <a:xfrm>
            <a:off x="1000080" y="1428840"/>
            <a:ext cx="7066080" cy="46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31040" cy="644400"/>
          </a:xfrm>
          <a:prstGeom prst="rect">
            <a:avLst/>
          </a:prstGeom>
          <a:gradFill rotWithShape="0">
            <a:gsLst>
              <a:gs pos="0">
                <a:srgbClr val="83ca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81720" rIns="81720" tIns="42480" bIns="424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464653"/>
                </a:solidFill>
                <a:latin typeface="Cambria"/>
              </a:rPr>
              <a:t>Запрос на нового агента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69" name="Rectangle 9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0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11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2"/>
          <p:cNvSpPr/>
          <p:nvPr/>
        </p:nvSpPr>
        <p:spPr>
          <a:xfrm>
            <a:off x="468360" y="6381720"/>
            <a:ext cx="727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приложений для мобильных интеллектуальных систем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аб. работ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Group 13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374" name="Picture 14" descr="ЛоготипСПРИНТ"/>
            <p:cNvPicPr/>
            <p:nvPr/>
          </p:nvPicPr>
          <p:blipFill>
            <a:blip r:embed="rId1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Text Box 15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6" name="Picture 12" descr=""/>
          <p:cNvPicPr/>
          <p:nvPr/>
        </p:nvPicPr>
        <p:blipFill>
          <a:blip r:embed="rId2"/>
          <a:stretch/>
        </p:blipFill>
        <p:spPr>
          <a:xfrm>
            <a:off x="714240" y="1676520"/>
            <a:ext cx="7751880" cy="38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31040" cy="573120"/>
          </a:xfrm>
          <a:prstGeom prst="rect">
            <a:avLst/>
          </a:prstGeom>
          <a:gradFill rotWithShape="0">
            <a:gsLst>
              <a:gs pos="0">
                <a:srgbClr val="83ca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81720" rIns="81720" tIns="42480" bIns="424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464653"/>
                </a:solidFill>
                <a:latin typeface="Cambria"/>
              </a:rPr>
              <a:t>Получение ответа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78" name="Rectangle 9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10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11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2"/>
          <p:cNvSpPr/>
          <p:nvPr/>
        </p:nvSpPr>
        <p:spPr>
          <a:xfrm>
            <a:off x="468360" y="6381720"/>
            <a:ext cx="727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приложений для мобильных интеллектуальных систем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аб. работ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Group 13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383" name="Picture 14" descr="ЛоготипСПРИНТ"/>
            <p:cNvPicPr/>
            <p:nvPr/>
          </p:nvPicPr>
          <p:blipFill>
            <a:blip r:embed="rId1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Text Box 15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5" name="Picture 12" descr=""/>
          <p:cNvPicPr/>
          <p:nvPr/>
        </p:nvPicPr>
        <p:blipFill>
          <a:blip r:embed="rId2"/>
          <a:stretch/>
        </p:blipFill>
        <p:spPr>
          <a:xfrm>
            <a:off x="1500120" y="1428840"/>
            <a:ext cx="6027840" cy="45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98600"/>
            <a:ext cx="8231040" cy="573120"/>
          </a:xfrm>
          <a:prstGeom prst="rect">
            <a:avLst/>
          </a:prstGeom>
          <a:gradFill rotWithShape="0">
            <a:gsLst>
              <a:gs pos="0">
                <a:srgbClr val="83ca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81720" rIns="81720" tIns="42480" bIns="424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464653"/>
                </a:solidFill>
                <a:latin typeface="Cambria"/>
              </a:rPr>
              <a:t>Графическое отображение передачи данных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7" name="Rectangle 9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10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11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2"/>
          <p:cNvSpPr/>
          <p:nvPr/>
        </p:nvSpPr>
        <p:spPr>
          <a:xfrm>
            <a:off x="468360" y="6381720"/>
            <a:ext cx="727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приложений для мобильных интеллектуальных систем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аб. работ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Group 13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392" name="Picture 14" descr="ЛоготипСПРИНТ"/>
            <p:cNvPicPr/>
            <p:nvPr/>
          </p:nvPicPr>
          <p:blipFill>
            <a:blip r:embed="rId1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Text Box 15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4" name="Picture 2" descr=""/>
          <p:cNvPicPr/>
          <p:nvPr/>
        </p:nvPicPr>
        <p:blipFill>
          <a:blip r:embed="rId2"/>
          <a:stretch/>
        </p:blipFill>
        <p:spPr>
          <a:xfrm>
            <a:off x="1143000" y="1500120"/>
            <a:ext cx="682776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фон1"/>
          <p:cNvPicPr/>
          <p:nvPr/>
        </p:nvPicPr>
        <p:blipFill>
          <a:blip r:embed="rId1"/>
          <a:stretch/>
        </p:blipFill>
        <p:spPr>
          <a:xfrm>
            <a:off x="0" y="-747720"/>
            <a:ext cx="9180360" cy="7605720"/>
          </a:xfrm>
          <a:prstGeom prst="rect">
            <a:avLst/>
          </a:prstGeom>
          <a:ln w="0">
            <a:noFill/>
          </a:ln>
        </p:spPr>
      </p:pic>
      <p:sp>
        <p:nvSpPr>
          <p:cNvPr id="396" name="WordArt 3"/>
          <p:cNvSpPr txBox="1"/>
          <p:nvPr/>
        </p:nvSpPr>
        <p:spPr>
          <a:xfrm>
            <a:off x="1692360" y="907920"/>
            <a:ext cx="5802120" cy="4680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28440">
                  <a:solidFill>
                    <a:srgbClr val="666699"/>
                  </a:solidFill>
                  <a:miter/>
                </a:ln>
                <a:solidFill>
                  <a:srgbClr val="000080">
                    <a:alpha val="86000"/>
                  </a:srgbClr>
                </a:solidFill>
                <a:latin typeface="Souvenir Lt BT"/>
              </a:rPr>
              <a:t>САНКТ-ПЕТЕРБУРГСКИЙ ГОСУДАРСТВЕННЫЙ УНИВЕРСИТЕТ</a:t>
            </a:r>
            <a:endParaRPr b="1" lang="en-US" sz="4000" spc="1" strike="noStrike">
              <a:ln w="28440">
                <a:solidFill>
                  <a:srgbClr val="666699"/>
                </a:solidFill>
                <a:miter/>
              </a:ln>
              <a:solidFill>
                <a:srgbClr val="000080">
                  <a:alpha val="86000"/>
                </a:srgbClr>
              </a:solidFill>
              <a:latin typeface="Souvenir Lt BT"/>
              <a:ea typeface="Souvenir Lt BT"/>
            </a:endParaRPr>
          </a:p>
        </p:txBody>
      </p:sp>
      <p:sp>
        <p:nvSpPr>
          <p:cNvPr id="397" name="Text Box 5"/>
          <p:cNvSpPr/>
          <p:nvPr/>
        </p:nvSpPr>
        <p:spPr>
          <a:xfrm>
            <a:off x="2007360" y="4437000"/>
            <a:ext cx="523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Благодарю за внима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опрос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32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33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34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35"/>
          <p:cNvSpPr/>
          <p:nvPr/>
        </p:nvSpPr>
        <p:spPr>
          <a:xfrm>
            <a:off x="468360" y="6381720"/>
            <a:ext cx="727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приложений для мобильных интеллектуальных систем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аб. работ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36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403" name="Picture 37" descr="ЛоготипСПРИНТ"/>
            <p:cNvPicPr/>
            <p:nvPr/>
          </p:nvPicPr>
          <p:blipFill>
            <a:blip r:embed="rId2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Text Box 38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Номер слайда 2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87F77-9EEC-4BC8-95DC-F01679319B0C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2"/>
          <p:cNvSpPr/>
          <p:nvPr/>
        </p:nvSpPr>
        <p:spPr>
          <a:xfrm>
            <a:off x="395280" y="1052640"/>
            <a:ext cx="835344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1116000" y="260280"/>
            <a:ext cx="72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Verdana"/>
              </a:rPr>
              <a:t>Цель лабораторной работ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1187280" y="1125360"/>
            <a:ext cx="723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6"/>
          <p:cNvSpPr/>
          <p:nvPr/>
        </p:nvSpPr>
        <p:spPr>
          <a:xfrm>
            <a:off x="755640" y="2205000"/>
            <a:ext cx="8388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накомится с мультиагентной платформой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D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установить платформу на рабочий компьютер, освоить протокол передачи данных между агентами на платформе, запуск главного контейнера платформы и нового агент, на примере агентов «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ngAgen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 - запрос-отв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1"/>
          <p:cNvSpPr/>
          <p:nvPr/>
        </p:nvSpPr>
        <p:spPr>
          <a:xfrm>
            <a:off x="1403280" y="4941720"/>
            <a:ext cx="662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www.math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bu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/user/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an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om3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/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b0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2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4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9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21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287" name="Picture 22" descr="ЛоготипСПРИНТ"/>
            <p:cNvPicPr/>
            <p:nvPr/>
          </p:nvPicPr>
          <p:blipFill>
            <a:blip r:embed="rId1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Text Box 23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Text Box 50"/>
          <p:cNvSpPr/>
          <p:nvPr/>
        </p:nvSpPr>
        <p:spPr>
          <a:xfrm>
            <a:off x="468360" y="6381720"/>
            <a:ext cx="727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приложений для мобильных интеллектуальных систем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аб. работа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Номер слайда 2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F9BF2-9858-4809-856B-CDACE0F1FC63}" type="slidenum">
              <a:rPr b="0" lang="ru-RU" sz="14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"/>
          <p:cNvSpPr/>
          <p:nvPr/>
        </p:nvSpPr>
        <p:spPr>
          <a:xfrm>
            <a:off x="395280" y="1052640"/>
            <a:ext cx="835344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826920" y="404640"/>
            <a:ext cx="72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Verdana"/>
              </a:rPr>
              <a:t>План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1187280" y="1125360"/>
            <a:ext cx="723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3"/>
          <p:cNvSpPr/>
          <p:nvPr/>
        </p:nvSpPr>
        <p:spPr>
          <a:xfrm>
            <a:off x="755640" y="1700280"/>
            <a:ext cx="7704000" cy="38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становка библиотек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ключить библиотек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здать новый проект с описанием аг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пустить платформу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пустить новые аг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здать  и отправить запрос на нового аген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9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20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21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22"/>
          <p:cNvSpPr/>
          <p:nvPr/>
        </p:nvSpPr>
        <p:spPr>
          <a:xfrm>
            <a:off x="468360" y="6381720"/>
            <a:ext cx="727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приложений для мобильных интеллектуальных систем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аб. работа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Group 23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300" name="Picture 24" descr="ЛоготипСПРИНТ"/>
            <p:cNvPicPr/>
            <p:nvPr/>
          </p:nvPicPr>
          <p:blipFill>
            <a:blip r:embed="rId1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25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4000" y="355320"/>
            <a:ext cx="7948440" cy="584280"/>
          </a:xfrm>
          <a:prstGeom prst="rect">
            <a:avLst/>
          </a:prstGeom>
          <a:gradFill rotWithShape="0">
            <a:gsLst>
              <a:gs pos="0">
                <a:srgbClr val="83ca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81720" rIns="81720" tIns="42480" bIns="424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Установка библиотек 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JADE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3" name="Rectangle 15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6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7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8"/>
          <p:cNvSpPr/>
          <p:nvPr/>
        </p:nvSpPr>
        <p:spPr>
          <a:xfrm>
            <a:off x="468360" y="6381720"/>
            <a:ext cx="727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приложений для мобильных интеллектуальных систем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аб. работа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Group 19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308" name="Picture 20" descr="ЛоготипСПРИНТ"/>
            <p:cNvPicPr/>
            <p:nvPr/>
          </p:nvPicPr>
          <p:blipFill>
            <a:blip r:embed="rId1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Text Box 21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Rectangle 13"/>
          <p:cNvSpPr/>
          <p:nvPr/>
        </p:nvSpPr>
        <p:spPr>
          <a:xfrm>
            <a:off x="285840" y="1214280"/>
            <a:ext cx="8572320" cy="38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Скачать архив с платформой можно с официального сайт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AD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по ссылке: </a:t>
            </a:r>
            <a:r>
              <a:rPr b="0" lang="en-GB" sz="2400" spc="-1" strike="noStrike" u="sng">
                <a:solidFill>
                  <a:srgbClr val="b292ca"/>
                </a:solidFill>
                <a:uFillTx/>
                <a:latin typeface="Calibri"/>
                <a:hlinkClick r:id="rId2"/>
              </a:rPr>
              <a:t>http://jade.tilab.com/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Создайте отдельную папку, например, с названием Jade, и скопируйте содержимо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рх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верьте расположение таких файлов к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4953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build.xml – находится в корне папки Jade (созданной нами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4953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jade.jar – находится в папке lib/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4953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апки исходных файлов examples/ и jade/ - находятся в src/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68000" y="142560"/>
            <a:ext cx="8240760" cy="679320"/>
          </a:xfrm>
          <a:prstGeom prst="rect">
            <a:avLst/>
          </a:prstGeom>
          <a:gradFill rotWithShape="0">
            <a:gsLst>
              <a:gs pos="0">
                <a:srgbClr val="83ca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81720" rIns="81720" tIns="42480" bIns="424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464653"/>
                </a:solidFill>
                <a:latin typeface="Cambria"/>
              </a:rPr>
              <a:t>Главный контейнер платформы </a:t>
            </a: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JADE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85840" y="1643040"/>
            <a:ext cx="8572320" cy="24415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rmAutofit fontScale="78000"/>
          </a:bodyPr>
          <a:p>
            <a:pPr marL="212760" indent="-21276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должен быть создан первым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он должен включать в себя двух специальных агентов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AMS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 (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agent management system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)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– агент, который управляет остальными агентами; он способен создавать и останавливать агентов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DF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 (directory facilitation)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– по сути представляет из себя желтые страницы, в котором записываются адреса, имена и возможности агентов в системе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12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15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6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7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8"/>
          <p:cNvSpPr/>
          <p:nvPr/>
        </p:nvSpPr>
        <p:spPr>
          <a:xfrm>
            <a:off x="468360" y="6381720"/>
            <a:ext cx="727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приложений для мобильных интеллектуальных систем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аб. работа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Group 19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318" name="Picture 20" descr="ЛоготипСПРИНТ"/>
            <p:cNvPicPr/>
            <p:nvPr/>
          </p:nvPicPr>
          <p:blipFill>
            <a:blip r:embed="rId1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Text Box 21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71320" y="202680"/>
            <a:ext cx="7948440" cy="582840"/>
          </a:xfrm>
          <a:prstGeom prst="rect">
            <a:avLst/>
          </a:prstGeom>
          <a:gradFill rotWithShape="0">
            <a:gsLst>
              <a:gs pos="0">
                <a:srgbClr val="83ca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81720" rIns="81720" tIns="42480" bIns="424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464653"/>
                </a:solidFill>
                <a:latin typeface="Cambria"/>
              </a:rPr>
              <a:t>Подключение библиотек </a:t>
            </a: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JADE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1" name="Rectangle 15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6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7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8"/>
          <p:cNvSpPr/>
          <p:nvPr/>
        </p:nvSpPr>
        <p:spPr>
          <a:xfrm>
            <a:off x="468360" y="6381720"/>
            <a:ext cx="727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приложений для мобильных интеллектуальных систем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аб. работ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Group 19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326" name="Picture 20" descr="ЛоготипСПРИНТ"/>
            <p:cNvPicPr/>
            <p:nvPr/>
          </p:nvPicPr>
          <p:blipFill>
            <a:blip r:embed="rId1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Text Box 21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8" name="Picture 11" descr=""/>
          <p:cNvPicPr/>
          <p:nvPr/>
        </p:nvPicPr>
        <p:blipFill>
          <a:blip r:embed="rId2"/>
          <a:stretch/>
        </p:blipFill>
        <p:spPr>
          <a:xfrm>
            <a:off x="1631880" y="3714840"/>
            <a:ext cx="5797800" cy="25002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2" descr=""/>
          <p:cNvPicPr/>
          <p:nvPr/>
        </p:nvPicPr>
        <p:blipFill>
          <a:blip r:embed="rId3"/>
          <a:stretch/>
        </p:blipFill>
        <p:spPr>
          <a:xfrm>
            <a:off x="1857240" y="1214280"/>
            <a:ext cx="538488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28480" y="355320"/>
            <a:ext cx="6221160" cy="584280"/>
          </a:xfrm>
          <a:prstGeom prst="rect">
            <a:avLst/>
          </a:prstGeom>
          <a:gradFill rotWithShape="0">
            <a:gsLst>
              <a:gs pos="0">
                <a:srgbClr val="83ca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81720" rIns="81720" tIns="42480" bIns="424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464653"/>
                </a:solidFill>
                <a:latin typeface="Cambria"/>
              </a:rPr>
              <a:t>Создаем нового агента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1" name="Rectangle 9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0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1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2"/>
          <p:cNvSpPr/>
          <p:nvPr/>
        </p:nvSpPr>
        <p:spPr>
          <a:xfrm>
            <a:off x="468360" y="6381720"/>
            <a:ext cx="727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приложений для мобильных интеллектуальных систем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аб. работ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13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336" name="Picture 14" descr="ЛоготипСПРИНТ"/>
            <p:cNvPicPr/>
            <p:nvPr/>
          </p:nvPicPr>
          <p:blipFill>
            <a:blip r:embed="rId1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Text Box 15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8" name="Picture 11" descr=""/>
          <p:cNvPicPr/>
          <p:nvPr/>
        </p:nvPicPr>
        <p:blipFill>
          <a:blip r:embed="rId2"/>
          <a:stretch/>
        </p:blipFill>
        <p:spPr>
          <a:xfrm>
            <a:off x="1071720" y="1571760"/>
            <a:ext cx="6951600" cy="407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85840" y="355320"/>
            <a:ext cx="8501040" cy="584280"/>
          </a:xfrm>
          <a:prstGeom prst="rect">
            <a:avLst/>
          </a:prstGeom>
          <a:gradFill rotWithShape="0">
            <a:gsLst>
              <a:gs pos="0">
                <a:srgbClr val="83ca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81720" rIns="81720" tIns="42480" bIns="424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464653"/>
                </a:solidFill>
                <a:latin typeface="Cambria"/>
              </a:rPr>
              <a:t>Конфигурация запуска платформы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0" name="Rectangle 9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0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1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2"/>
          <p:cNvSpPr/>
          <p:nvPr/>
        </p:nvSpPr>
        <p:spPr>
          <a:xfrm>
            <a:off x="468360" y="6381720"/>
            <a:ext cx="727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приложений для мобильных интеллектуальных систем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аб. работ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Group 13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345" name="Picture 14" descr="ЛоготипСПРИНТ"/>
            <p:cNvPicPr/>
            <p:nvPr/>
          </p:nvPicPr>
          <p:blipFill>
            <a:blip r:embed="rId1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Text Box 15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7" name="Picture 11" descr=""/>
          <p:cNvPicPr/>
          <p:nvPr/>
        </p:nvPicPr>
        <p:blipFill>
          <a:blip r:embed="rId2"/>
          <a:stretch/>
        </p:blipFill>
        <p:spPr>
          <a:xfrm>
            <a:off x="2071800" y="1305000"/>
            <a:ext cx="5072040" cy="19098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2" descr=""/>
          <p:cNvPicPr/>
          <p:nvPr/>
        </p:nvPicPr>
        <p:blipFill>
          <a:blip r:embed="rId3"/>
          <a:stretch/>
        </p:blipFill>
        <p:spPr>
          <a:xfrm>
            <a:off x="1214280" y="3295800"/>
            <a:ext cx="6858000" cy="298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31040" cy="644400"/>
          </a:xfrm>
          <a:prstGeom prst="rect">
            <a:avLst/>
          </a:prstGeom>
          <a:gradFill rotWithShape="0">
            <a:gsLst>
              <a:gs pos="0">
                <a:srgbClr val="83ca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81720" rIns="81720" tIns="42480" bIns="424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464653"/>
                </a:solidFill>
                <a:latin typeface="Cambria"/>
              </a:rPr>
              <a:t>Пользовательский интерфейс 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JADE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50" name="Text Box 4"/>
          <p:cNvSpPr/>
          <p:nvPr/>
        </p:nvSpPr>
        <p:spPr>
          <a:xfrm>
            <a:off x="7446960" y="4032360"/>
            <a:ext cx="2700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1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2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3"/>
          <p:cNvSpPr/>
          <p:nvPr/>
        </p:nvSpPr>
        <p:spPr>
          <a:xfrm>
            <a:off x="395280" y="6237360"/>
            <a:ext cx="83534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4"/>
          <p:cNvSpPr/>
          <p:nvPr/>
        </p:nvSpPr>
        <p:spPr>
          <a:xfrm>
            <a:off x="468360" y="6381720"/>
            <a:ext cx="727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приложений для мобильных интеллектуальных систем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Лаб. работ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Group 15"/>
          <p:cNvGrpSpPr/>
          <p:nvPr/>
        </p:nvGrpSpPr>
        <p:grpSpPr>
          <a:xfrm>
            <a:off x="179280" y="6165720"/>
            <a:ext cx="8964720" cy="692280"/>
            <a:chOff x="179280" y="6165720"/>
            <a:chExt cx="8964720" cy="692280"/>
          </a:xfrm>
        </p:grpSpPr>
        <p:pic>
          <p:nvPicPr>
            <p:cNvPr id="356" name="Picture 16" descr="ЛоготипСПРИНТ"/>
            <p:cNvPicPr/>
            <p:nvPr/>
          </p:nvPicPr>
          <p:blipFill>
            <a:blip r:embed="rId1"/>
            <a:stretch/>
          </p:blipFill>
          <p:spPr>
            <a:xfrm>
              <a:off x="7488360" y="6189840"/>
              <a:ext cx="165564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Text Box 17"/>
            <p:cNvSpPr/>
            <p:nvPr/>
          </p:nvSpPr>
          <p:spPr>
            <a:xfrm>
              <a:off x="179280" y="6165720"/>
              <a:ext cx="748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----------------------------------------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8" name="Picture 12" descr=""/>
          <p:cNvPicPr/>
          <p:nvPr/>
        </p:nvPicPr>
        <p:blipFill>
          <a:blip r:embed="rId2"/>
          <a:stretch/>
        </p:blipFill>
        <p:spPr>
          <a:xfrm>
            <a:off x="785880" y="1428840"/>
            <a:ext cx="7496280" cy="4714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3:03:25Z</dcterms:created>
  <dc:creator>Андрей</dc:creator>
  <dc:description/>
  <dc:language>en-US</dc:language>
  <cp:lastModifiedBy>KostyaNote</cp:lastModifiedBy>
  <dcterms:modified xsi:type="dcterms:W3CDTF">2013-06-26T16:03:29Z</dcterms:modified>
  <cp:revision>517</cp:revision>
  <dc:subject/>
  <dc:title>Training services</dc:title>
</cp:coreProperties>
</file>